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3200" cy="9921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792840" cy="9921960"/>
          </a:xfrm>
          <a:custGeom>
            <a:avLst/>
            <a:gdLst>
              <a:gd name="textAreaLeft" fmla="*/ 360 w 6792840"/>
              <a:gd name="textAreaRight" fmla="*/ 6792480 w 6792840"/>
              <a:gd name="textAreaTop" fmla="*/ 360 h 9921960"/>
              <a:gd name="textAreaBottom" fmla="*/ 9921600 h 9921960"/>
            </a:gdLst>
            <a:ahLst/>
            <a:rect l="textAreaLeft" t="textAreaTop" r="textAreaRight" b="textAreaBottom"/>
            <a:pathLst>
              <a:path w="21600" h="31550">
                <a:moveTo>
                  <a:pt x="5" y="0"/>
                </a:moveTo>
                <a:arcTo wR="5" hR="5" stAng="16200000" swAng="-5400000"/>
                <a:lnTo>
                  <a:pt x="0" y="31545"/>
                </a:lnTo>
                <a:arcTo wR="5" hR="5" stAng="10800000" swAng="-5400000"/>
                <a:lnTo>
                  <a:pt x="21595" y="315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792840" cy="9921960"/>
          </a:xfrm>
          <a:custGeom>
            <a:avLst/>
            <a:gdLst>
              <a:gd name="textAreaLeft" fmla="*/ 360 w 6792840"/>
              <a:gd name="textAreaRight" fmla="*/ 6792480 w 6792840"/>
              <a:gd name="textAreaTop" fmla="*/ 360 h 9921960"/>
              <a:gd name="textAreaBottom" fmla="*/ 9921600 h 9921960"/>
            </a:gdLst>
            <a:ahLst/>
            <a:rect l="textAreaLeft" t="textAreaTop" r="textAreaRight" b="textAreaBottom"/>
            <a:pathLst>
              <a:path w="21600" h="31550">
                <a:moveTo>
                  <a:pt x="5" y="0"/>
                </a:moveTo>
                <a:arcTo wR="5" hR="5" stAng="16200000" swAng="-5400000"/>
                <a:lnTo>
                  <a:pt x="0" y="31545"/>
                </a:lnTo>
                <a:arcTo wR="5" hR="5" stAng="10800000" swAng="-5400000"/>
                <a:lnTo>
                  <a:pt x="21595" y="315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47680" y="-360"/>
            <a:ext cx="29386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6480" cy="371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42336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47680" y="9423360"/>
            <a:ext cx="293868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371460-DBCB-439A-A08F-2D1AC8E1DA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915840" y="744480"/>
            <a:ext cx="49593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09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915840" y="744480"/>
            <a:ext cx="49593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09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915840" y="744480"/>
            <a:ext cx="49593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09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915840" y="744480"/>
            <a:ext cx="49593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09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915840" y="744480"/>
            <a:ext cx="49593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09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915840" y="744480"/>
            <a:ext cx="49593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09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15840" y="744480"/>
            <a:ext cx="49593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09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915840" y="744480"/>
            <a:ext cx="49593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09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915840" y="744480"/>
            <a:ext cx="49593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09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915840" y="744480"/>
            <a:ext cx="49593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09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915840" y="744480"/>
            <a:ext cx="49593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09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915840" y="744480"/>
            <a:ext cx="49593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09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50CD-8A51-485B-A463-6005AA559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3276-BF0A-486A-A877-727B653DA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DD22-D965-4796-8617-A3D3938CA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5848-271E-46D1-8CD9-303F9094B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FCC4-A6A5-4ED1-A8A8-DEB8B7D2D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DEF5-160E-45F8-B3EA-2989DBF06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2967-9528-4831-9D20-34DCE3FDD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D3AF-6960-4873-AF00-70790F3A4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81AF-240B-4A2F-A91D-8E0D88C1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E5A9-1165-4F32-B929-EB71A8A1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0D0F-3BEB-4D83-803F-9196B469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AB11-B66A-4E58-8D79-0366158F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B247DA-1F7C-4F1B-A3F1-564C91BBB53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68040"/>
            <a:ext cx="77724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Comic Sans MS"/>
              </a:rPr>
              <a:t>Classificazione delle emozioni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1400"/>
            </a:b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(Plutchik 198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640720" cy="55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568440"/>
                <a:tab algn="l" pos="1143000"/>
                <a:tab algn="l" pos="1521000"/>
                <a:tab algn="l" pos="2473200"/>
                <a:tab algn="l" pos="3711600"/>
                <a:tab algn="l" pos="475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600" spc="-1" strike="noStrike">
                <a:solidFill>
                  <a:srgbClr val="006600"/>
                </a:solidFill>
                <a:latin typeface="Comic Sans MS"/>
              </a:rPr>
              <a:t>Amore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568440"/>
                <a:tab algn="l" pos="1143000"/>
                <a:tab algn="l" pos="1521000"/>
                <a:tab algn="l" pos="2473200"/>
                <a:tab algn="l" pos="3711600"/>
                <a:tab algn="l" pos="475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568440"/>
                <a:tab algn="l" pos="1143000"/>
                <a:tab algn="l" pos="1521000"/>
                <a:tab algn="l" pos="2473200"/>
                <a:tab algn="l" pos="3711600"/>
                <a:tab algn="l" pos="475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568440"/>
                <a:tab algn="l" pos="1143000"/>
                <a:tab algn="l" pos="1521000"/>
                <a:tab algn="l" pos="2473200"/>
                <a:tab algn="l" pos="3711600"/>
                <a:tab algn="l" pos="475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GB" sz="1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GB" sz="1400" spc="-1" strike="noStrike">
                <a:solidFill>
                  <a:srgbClr val="000099"/>
                </a:solidFill>
                <a:latin typeface="Comic Sans MS"/>
              </a:rPr>
              <a:t>      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en-GB" sz="1400" spc="-1" strike="noStrike">
                <a:solidFill>
                  <a:srgbClr val="ff3300"/>
                </a:solidFill>
                <a:latin typeface="Comic Sans MS"/>
              </a:rPr>
              <a:t>GIOIA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en-GB" sz="1400" spc="-1" strike="noStrike">
                <a:solidFill>
                  <a:srgbClr val="000099"/>
                </a:solidFill>
                <a:latin typeface="Comic Sans MS"/>
              </a:rPr>
              <a:t>ACCETT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568440"/>
                <a:tab algn="l" pos="1143000"/>
                <a:tab algn="l" pos="1521000"/>
                <a:tab algn="l" pos="2473200"/>
                <a:tab algn="l" pos="3711600"/>
                <a:tab algn="l" pos="475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568440"/>
                <a:tab algn="l" pos="1143000"/>
                <a:tab algn="l" pos="1521000"/>
                <a:tab algn="l" pos="2473200"/>
                <a:tab algn="l" pos="3711600"/>
                <a:tab algn="l" pos="475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568440"/>
                <a:tab algn="l" pos="1143000"/>
                <a:tab algn="l" pos="1521000"/>
                <a:tab algn="l" pos="2473200"/>
                <a:tab algn="l" pos="3711600"/>
                <a:tab algn="l" pos="475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568440"/>
                <a:tab algn="l" pos="1143000"/>
                <a:tab algn="l" pos="1521000"/>
                <a:tab algn="l" pos="2473200"/>
                <a:tab algn="l" pos="3711600"/>
                <a:tab algn="l" pos="475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1" lang="en-GB" sz="1400" spc="-1" strike="noStrike">
                <a:solidFill>
                  <a:srgbClr val="ff3300"/>
                </a:solidFill>
                <a:latin typeface="Comic Sans MS"/>
              </a:rPr>
              <a:t>PAU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568440"/>
                <a:tab algn="l" pos="1143000"/>
                <a:tab algn="l" pos="1521000"/>
                <a:tab algn="l" pos="2473200"/>
                <a:tab algn="l" pos="3711600"/>
                <a:tab algn="l" pos="475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GB" sz="1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GB" sz="1400" spc="-1" strike="noStrike">
                <a:solidFill>
                  <a:srgbClr val="000099"/>
                </a:solidFill>
                <a:latin typeface="Comic Sans MS"/>
              </a:rPr>
              <a:t>             </a:t>
            </a:r>
            <a:r>
              <a:rPr b="1" lang="en-GB" sz="1400" spc="-1" strike="noStrike">
                <a:solidFill>
                  <a:srgbClr val="000099"/>
                </a:solidFill>
                <a:latin typeface="Comic Sans MS"/>
              </a:rPr>
              <a:t>ASPETTATI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568440"/>
                <a:tab algn="l" pos="1143000"/>
                <a:tab algn="l" pos="1521000"/>
                <a:tab algn="l" pos="2473200"/>
                <a:tab algn="l" pos="3711600"/>
                <a:tab algn="l" pos="475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68440"/>
                <a:tab algn="l" pos="1143000"/>
                <a:tab algn="l" pos="1521000"/>
                <a:tab algn="l" pos="2473200"/>
                <a:tab algn="l" pos="3711600"/>
                <a:tab algn="l" pos="475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568440"/>
                <a:tab algn="l" pos="1143000"/>
                <a:tab algn="l" pos="1521000"/>
                <a:tab algn="l" pos="2473200"/>
                <a:tab algn="l" pos="3711600"/>
                <a:tab algn="l" pos="475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568440"/>
                <a:tab algn="l" pos="1143000"/>
                <a:tab algn="l" pos="1521000"/>
                <a:tab algn="l" pos="2473200"/>
                <a:tab algn="l" pos="3711600"/>
                <a:tab algn="l" pos="475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568440"/>
                <a:tab algn="l" pos="1143000"/>
                <a:tab algn="l" pos="1521000"/>
                <a:tab algn="l" pos="2473200"/>
                <a:tab algn="l" pos="3711600"/>
                <a:tab algn="l" pos="475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ff3300"/>
                </a:solidFill>
                <a:latin typeface="Comic Sans MS"/>
              </a:rPr>
              <a:t>      </a:t>
            </a:r>
            <a:r>
              <a:rPr b="1" lang="en-GB" sz="1400" spc="-1" strike="noStrike">
                <a:solidFill>
                  <a:srgbClr val="ff3300"/>
                </a:solidFill>
                <a:latin typeface="Comic Sans MS"/>
              </a:rPr>
              <a:t>COLLERA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1" lang="en-GB" sz="1400" spc="-1" strike="noStrike">
                <a:solidFill>
                  <a:srgbClr val="000099"/>
                </a:solidFill>
                <a:latin typeface="Comic Sans MS"/>
              </a:rPr>
              <a:t>SORPRE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568440"/>
                <a:tab algn="l" pos="1143000"/>
                <a:tab algn="l" pos="1521000"/>
                <a:tab algn="l" pos="2473200"/>
                <a:tab algn="l" pos="3711600"/>
                <a:tab algn="l" pos="475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568440"/>
                <a:tab algn="l" pos="1143000"/>
                <a:tab algn="l" pos="1521000"/>
                <a:tab algn="l" pos="2473200"/>
                <a:tab algn="l" pos="3711600"/>
                <a:tab algn="l" pos="475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568440"/>
                <a:tab algn="l" pos="1143000"/>
                <a:tab algn="l" pos="1521000"/>
                <a:tab algn="l" pos="2473200"/>
                <a:tab algn="l" pos="3711600"/>
                <a:tab algn="l" pos="475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568440"/>
                <a:tab algn="l" pos="1143000"/>
                <a:tab algn="l" pos="1521000"/>
                <a:tab algn="l" pos="2473200"/>
                <a:tab algn="l" pos="3711600"/>
                <a:tab algn="l" pos="475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en-GB" sz="1400" spc="-1" strike="noStrike">
                <a:solidFill>
                  <a:srgbClr val="000099"/>
                </a:solidFill>
                <a:latin typeface="Comic Sans MS"/>
              </a:rPr>
              <a:t>SCHIFO       </a:t>
            </a:r>
            <a:r>
              <a:rPr b="1" lang="en-GB" sz="1400" spc="-1" strike="noStrike">
                <a:solidFill>
                  <a:srgbClr val="ff3300"/>
                </a:solidFill>
                <a:latin typeface="Comic Sans MS"/>
              </a:rPr>
              <a:t>TRISTEZ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568440"/>
                <a:tab algn="l" pos="1143000"/>
                <a:tab algn="l" pos="1521000"/>
                <a:tab algn="l" pos="2473200"/>
                <a:tab algn="l" pos="3711600"/>
                <a:tab algn="l" pos="475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568440"/>
                <a:tab algn="l" pos="1143000"/>
                <a:tab algn="l" pos="1521000"/>
                <a:tab algn="l" pos="2473200"/>
                <a:tab algn="l" pos="3711600"/>
                <a:tab algn="l" pos="475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568440"/>
                <a:tab algn="l" pos="1143000"/>
                <a:tab algn="l" pos="1521000"/>
                <a:tab algn="l" pos="2473200"/>
                <a:tab algn="l" pos="3711600"/>
                <a:tab algn="l" pos="475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n-GB" sz="12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en-GB" sz="1600" spc="-1" strike="noStrike">
                <a:solidFill>
                  <a:srgbClr val="006600"/>
                </a:solidFill>
                <a:latin typeface="Comic Sans MS"/>
              </a:rPr>
              <a:t>Disprezzo 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568440"/>
                <a:tab algn="l" pos="1143000"/>
                <a:tab algn="l" pos="1521000"/>
                <a:tab algn="l" pos="2473200"/>
                <a:tab algn="l" pos="3711600"/>
                <a:tab algn="l" pos="475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568440"/>
                <a:tab algn="l" pos="1143000"/>
                <a:tab algn="l" pos="1521000"/>
                <a:tab algn="l" pos="2473200"/>
                <a:tab algn="l" pos="3711600"/>
                <a:tab algn="l" pos="475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568440"/>
                <a:tab algn="l" pos="1143000"/>
                <a:tab algn="l" pos="1521000"/>
                <a:tab algn="l" pos="2473200"/>
                <a:tab algn="l" pos="3711600"/>
                <a:tab algn="l" pos="475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68440"/>
                <a:tab algn="l" pos="1143000"/>
                <a:tab algn="l" pos="1521000"/>
                <a:tab algn="l" pos="2473200"/>
                <a:tab algn="l" pos="3711600"/>
                <a:tab algn="l" pos="475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Comic Sans MS"/>
              </a:rPr>
              <a:t>Rimor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09680" y="1219320"/>
            <a:ext cx="4800600" cy="4495680"/>
          </a:xfrm>
          <a:prstGeom prst="ellipse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1219320"/>
            <a:ext cx="1440" cy="44956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95640" y="3429000"/>
            <a:ext cx="4814640" cy="14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819520" y="1825560"/>
            <a:ext cx="3504960" cy="32068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19520" y="1905120"/>
            <a:ext cx="3581280" cy="31240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43640" y="6597720"/>
            <a:ext cx="2700360" cy="260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800" spc="-1" strike="noStrike">
                <a:solidFill>
                  <a:srgbClr val="000099"/>
                </a:solidFill>
                <a:latin typeface="Tahoma"/>
              </a:rPr>
              <a:t>Dott.ssa Margherita Cesta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77080" y="1916280"/>
            <a:ext cx="2050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Tahoma"/>
              </a:rPr>
              <a:t>Imbarazzo vs decis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Tahoma"/>
              </a:rPr>
              <a:t>Vergogna vs orgogl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Tahoma"/>
              </a:rPr>
              <a:t>Gelosia vs fiducia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Tahoma"/>
              </a:rPr>
              <a:t>                  </a:t>
            </a:r>
            <a:r>
              <a:rPr b="1" lang="en-GB" sz="1400" spc="-1" strike="noStrike">
                <a:solidFill>
                  <a:srgbClr val="000099"/>
                </a:solidFill>
                <a:latin typeface="Tahoma"/>
              </a:rPr>
              <a:t>generosit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96000" y="5661000"/>
            <a:ext cx="2050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Tahoma"/>
              </a:rPr>
              <a:t>Colpa vs soddisf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9280" y="4221000"/>
            <a:ext cx="205128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Tahoma"/>
              </a:rPr>
              <a:t>Invidia vs altru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Tahoma"/>
              </a:rPr>
              <a:t>                  </a:t>
            </a:r>
            <a:r>
              <a:rPr b="1" lang="en-GB" sz="1400" spc="-1" strike="noStrike">
                <a:solidFill>
                  <a:srgbClr val="000099"/>
                </a:solidFill>
                <a:latin typeface="Tahoma"/>
              </a:rPr>
              <a:t>ammir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Tahoma"/>
              </a:rPr>
              <a:t>Sdegno vs approv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2852640"/>
            <a:ext cx="1582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9280" y="3213000"/>
            <a:ext cx="1835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Comic Sans MS"/>
              </a:rPr>
              <a:t>Aggressivit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08720" y="3284640"/>
            <a:ext cx="1835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Comic Sans MS"/>
              </a:rPr>
              <a:t>Spav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1557360"/>
            <a:ext cx="18349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Comic Sans MS"/>
              </a:rPr>
              <a:t>Ottimis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516720" y="1484280"/>
            <a:ext cx="1835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Comic Sans MS"/>
              </a:rPr>
              <a:t>Sottomiss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04000" y="4941720"/>
            <a:ext cx="1835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Comic Sans MS"/>
              </a:rPr>
              <a:t>Delus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 fill="hold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 fill="hold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" dur="500" fill="hold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" dur="500" fill="hold"/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" dur="500" fill="hold"/>
                                        <p:tgtEl>
                                          <p:spTgt spid="5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" dur="500" fill="hold"/>
                                        <p:tgtEl>
                                          <p:spTgt spid="5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dur="indefinite" fill="hold">
                      <p:stCondLst>
                        <p:cond delay="indefinite"/>
                      </p:stCondLst>
                      <p:childTnLst>
                        <p:par>
                          <p:cTn id="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 fill="hold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 fill="hold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 fill="hold"/>
                                        <p:tgtEl>
                                          <p:spTgt spid="5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1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1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1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1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 fill="hold"/>
                                        <p:tgtEl>
                                          <p:spTgt spid="51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 fill="hold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dur="indefinite" fill="hold">
                      <p:stCondLst>
                        <p:cond delay="indefinite"/>
                      </p:stCondLst>
                      <p:childTnLst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dur="indefinite" fill="hold">
                      <p:stCondLst>
                        <p:cond delay="indefinite"/>
                      </p:stCondLst>
                      <p:childTnLst>
                        <p:par>
                          <p:cTn id="1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dur="indefinite" fill="hold">
                      <p:stCondLst>
                        <p:cond delay="indefinite"/>
                      </p:stCondLst>
                      <p:childTnLst>
                        <p:par>
                          <p:cTn id="1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cc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169560"/>
            <a:ext cx="822960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Tahoma"/>
              </a:rPr>
              <a:t>Esemp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4000" y="2708280"/>
            <a:ext cx="842472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66560"/>
                <a:tab algn="l" pos="915840"/>
                <a:tab algn="l" pos="1365120"/>
                <a:tab algn="l" pos="1814400"/>
                <a:tab algn="l" pos="2263680"/>
                <a:tab algn="l" pos="2712960"/>
                <a:tab algn="l" pos="3162240"/>
                <a:tab algn="l" pos="3611520"/>
                <a:tab algn="l" pos="4060800"/>
                <a:tab algn="l" pos="4510080"/>
                <a:tab algn="l" pos="4959360"/>
                <a:tab algn="l" pos="5408640"/>
                <a:tab algn="l" pos="5857920"/>
                <a:tab algn="l" pos="6307200"/>
                <a:tab algn="l" pos="6756480"/>
                <a:tab algn="l" pos="7205760"/>
                <a:tab algn="l" pos="7655040"/>
                <a:tab algn="l" pos="8104320"/>
                <a:tab algn="l" pos="8553600"/>
                <a:tab algn="l" pos="90028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Tahoma"/>
              </a:rPr>
              <a:t>Riformul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66560"/>
                <a:tab algn="l" pos="915840"/>
                <a:tab algn="l" pos="1365120"/>
                <a:tab algn="l" pos="1814400"/>
                <a:tab algn="l" pos="2263680"/>
                <a:tab algn="l" pos="2712960"/>
                <a:tab algn="l" pos="3162240"/>
                <a:tab algn="l" pos="3611520"/>
                <a:tab algn="l" pos="4060800"/>
                <a:tab algn="l" pos="4510080"/>
                <a:tab algn="l" pos="4959360"/>
                <a:tab algn="l" pos="5408640"/>
                <a:tab algn="l" pos="5857920"/>
                <a:tab algn="l" pos="6307200"/>
                <a:tab algn="l" pos="6756480"/>
                <a:tab algn="l" pos="7205760"/>
                <a:tab algn="l" pos="7655040"/>
                <a:tab algn="l" pos="8104320"/>
                <a:tab algn="l" pos="8553600"/>
                <a:tab algn="l" pos="90028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en-GB" sz="1800" spc="-1" strike="noStrike">
                <a:solidFill>
                  <a:srgbClr val="006600"/>
                </a:solidFill>
                <a:latin typeface="Tahoma"/>
              </a:rPr>
              <a:t>Se ho ben capito, la scuola non ti da’ quello che cercavi, cose nuove ed interessa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66560"/>
                <a:tab algn="l" pos="915840"/>
                <a:tab algn="l" pos="1365120"/>
                <a:tab algn="l" pos="1814400"/>
                <a:tab algn="l" pos="2263680"/>
                <a:tab algn="l" pos="2712960"/>
                <a:tab algn="l" pos="3162240"/>
                <a:tab algn="l" pos="3611520"/>
                <a:tab algn="l" pos="4060800"/>
                <a:tab algn="l" pos="4510080"/>
                <a:tab algn="l" pos="4959360"/>
                <a:tab algn="l" pos="5408640"/>
                <a:tab algn="l" pos="5857920"/>
                <a:tab algn="l" pos="6307200"/>
                <a:tab algn="l" pos="6756480"/>
                <a:tab algn="l" pos="7205760"/>
                <a:tab algn="l" pos="7655040"/>
                <a:tab algn="l" pos="8104320"/>
                <a:tab algn="l" pos="8553600"/>
                <a:tab algn="l" pos="90028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66560"/>
                <a:tab algn="l" pos="915840"/>
                <a:tab algn="l" pos="1365120"/>
                <a:tab algn="l" pos="1814400"/>
                <a:tab algn="l" pos="2263680"/>
                <a:tab algn="l" pos="2712960"/>
                <a:tab algn="l" pos="3162240"/>
                <a:tab algn="l" pos="3611520"/>
                <a:tab algn="l" pos="4060800"/>
                <a:tab algn="l" pos="4510080"/>
                <a:tab algn="l" pos="4959360"/>
                <a:tab algn="l" pos="5408640"/>
                <a:tab algn="l" pos="5857920"/>
                <a:tab algn="l" pos="6307200"/>
                <a:tab algn="l" pos="6756480"/>
                <a:tab algn="l" pos="7205760"/>
                <a:tab algn="l" pos="7655040"/>
                <a:tab algn="l" pos="8104320"/>
                <a:tab algn="l" pos="8553600"/>
                <a:tab algn="l" pos="90028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Tahoma"/>
              </a:rPr>
              <a:t>Verbalizz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66560"/>
                <a:tab algn="l" pos="915840"/>
                <a:tab algn="l" pos="1365120"/>
                <a:tab algn="l" pos="1814400"/>
                <a:tab algn="l" pos="2263680"/>
                <a:tab algn="l" pos="2712960"/>
                <a:tab algn="l" pos="3162240"/>
                <a:tab algn="l" pos="3611520"/>
                <a:tab algn="l" pos="4060800"/>
                <a:tab algn="l" pos="4510080"/>
                <a:tab algn="l" pos="4959360"/>
                <a:tab algn="l" pos="5408640"/>
                <a:tab algn="l" pos="5857920"/>
                <a:tab algn="l" pos="6307200"/>
                <a:tab algn="l" pos="6756480"/>
                <a:tab algn="l" pos="7205760"/>
                <a:tab algn="l" pos="7655040"/>
                <a:tab algn="l" pos="8104320"/>
                <a:tab algn="l" pos="8553600"/>
                <a:tab algn="l" pos="90028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Tahoma"/>
              </a:rPr>
              <a:t>     </a:t>
            </a:r>
            <a:r>
              <a:rPr b="0" lang="en-GB" sz="1800" spc="-1" strike="noStrike">
                <a:solidFill>
                  <a:srgbClr val="006600"/>
                </a:solidFill>
                <a:latin typeface="Tahoma"/>
              </a:rPr>
              <a:t>Sento che sei deluso della scuola poiché non ti offre quello che ti aspettavi: cose nuove ed interessa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66560"/>
                <a:tab algn="l" pos="915840"/>
                <a:tab algn="l" pos="1365120"/>
                <a:tab algn="l" pos="1814400"/>
                <a:tab algn="l" pos="2263680"/>
                <a:tab algn="l" pos="2712960"/>
                <a:tab algn="l" pos="3162240"/>
                <a:tab algn="l" pos="3611520"/>
                <a:tab algn="l" pos="4060800"/>
                <a:tab algn="l" pos="4510080"/>
                <a:tab algn="l" pos="4959360"/>
                <a:tab algn="l" pos="5408640"/>
                <a:tab algn="l" pos="5857920"/>
                <a:tab algn="l" pos="6307200"/>
                <a:tab algn="l" pos="6756480"/>
                <a:tab algn="l" pos="7205760"/>
                <a:tab algn="l" pos="7655040"/>
                <a:tab algn="l" pos="8104320"/>
                <a:tab algn="l" pos="8553600"/>
                <a:tab algn="l" pos="90028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66560"/>
                <a:tab algn="l" pos="915840"/>
                <a:tab algn="l" pos="1365120"/>
                <a:tab algn="l" pos="1814400"/>
                <a:tab algn="l" pos="2263680"/>
                <a:tab algn="l" pos="2712960"/>
                <a:tab algn="l" pos="3162240"/>
                <a:tab algn="l" pos="3611520"/>
                <a:tab algn="l" pos="4060800"/>
                <a:tab algn="l" pos="4510080"/>
                <a:tab algn="l" pos="4959360"/>
                <a:tab algn="l" pos="5408640"/>
                <a:tab algn="l" pos="5857920"/>
                <a:tab algn="l" pos="6307200"/>
                <a:tab algn="l" pos="6756480"/>
                <a:tab algn="l" pos="7205760"/>
                <a:tab algn="l" pos="7655040"/>
                <a:tab algn="l" pos="8104320"/>
                <a:tab algn="l" pos="8553600"/>
                <a:tab algn="l" pos="90028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Tahoma"/>
              </a:rPr>
              <a:t>Dom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66560"/>
                <a:tab algn="l" pos="915840"/>
                <a:tab algn="l" pos="1365120"/>
                <a:tab algn="l" pos="1814400"/>
                <a:tab algn="l" pos="2263680"/>
                <a:tab algn="l" pos="2712960"/>
                <a:tab algn="l" pos="3162240"/>
                <a:tab algn="l" pos="3611520"/>
                <a:tab algn="l" pos="4060800"/>
                <a:tab algn="l" pos="4510080"/>
                <a:tab algn="l" pos="4959360"/>
                <a:tab algn="l" pos="5408640"/>
                <a:tab algn="l" pos="5857920"/>
                <a:tab algn="l" pos="6307200"/>
                <a:tab algn="l" pos="6756480"/>
                <a:tab algn="l" pos="7205760"/>
                <a:tab algn="l" pos="7655040"/>
                <a:tab algn="l" pos="8104320"/>
                <a:tab algn="l" pos="8553600"/>
                <a:tab algn="l" pos="90028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Tahoma"/>
              </a:rPr>
              <a:t>     </a:t>
            </a:r>
            <a:r>
              <a:rPr b="1" lang="en-GB" sz="1800" spc="-1" strike="noStrike">
                <a:solidFill>
                  <a:srgbClr val="006600"/>
                </a:solidFill>
                <a:latin typeface="Tahoma"/>
              </a:rPr>
              <a:t>Quale</a:t>
            </a:r>
            <a:r>
              <a:rPr b="1" lang="en-GB" sz="18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6600"/>
                </a:solidFill>
                <a:latin typeface="Tahoma"/>
              </a:rPr>
              <a:t> tipo di cose ti aspettavi di imparar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4000" y="620640"/>
            <a:ext cx="835164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620640"/>
            <a:ext cx="8569080" cy="1871640"/>
          </a:xfrm>
          <a:prstGeom prst="rect">
            <a:avLst/>
          </a:prstGeom>
          <a:solidFill>
            <a:srgbClr val="cce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60360" indent="-360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Tahoma"/>
              </a:rPr>
              <a:t>Studente delle scuole professionali</a:t>
            </a:r>
            <a:r>
              <a:rPr b="0" lang="en-GB" sz="1800" spc="-1" strike="noStrike">
                <a:solidFill>
                  <a:srgbClr val="333399"/>
                </a:solidFill>
                <a:latin typeface="Tahoma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i="1" lang="en-GB" sz="1800" spc="-1" strike="noStrike">
                <a:solidFill>
                  <a:srgbClr val="333399"/>
                </a:solidFill>
                <a:latin typeface="Tahoma"/>
              </a:rPr>
              <a:t>Non so….E’ solo che la scuola non mi da quello che mi sarei aspetta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Tahoma"/>
              </a:rPr>
              <a:t>Pensavo che venendo qui le cose sarebbero state diverse, che le lezion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Tahoma"/>
              </a:rPr>
              <a:t>sarebbero  state interessanti, che avrei avuto mondo di impar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Tahoma"/>
              </a:rPr>
              <a:t>un sacco di cose nuove. Invece, a quanto pare, questi corsi non mi danno nul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i="1" lang="en-GB" sz="1800" spc="-1" strike="noStrike">
                <a:solidFill>
                  <a:srgbClr val="333399"/>
                </a:solidFill>
                <a:latin typeface="Tahoma"/>
              </a:rPr>
              <a:t>Forse è meglio che lasci la scuola </a:t>
            </a:r>
            <a:r>
              <a:rPr b="0" lang="en-GB" sz="1800" spc="-1" strike="noStrike">
                <a:solidFill>
                  <a:srgbClr val="333399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8360" y="836640"/>
            <a:ext cx="806436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2708280"/>
            <a:ext cx="410508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43640" y="6597720"/>
            <a:ext cx="2700360" cy="260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900" spc="-1" strike="noStrike">
                <a:solidFill>
                  <a:srgbClr val="333399"/>
                </a:solidFill>
                <a:latin typeface="Arial"/>
              </a:rPr>
              <a:t>Dott.ssa Margherita Cesta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4" dur="indefinite" restart="never" nodeType="tmRoot">
          <p:childTnLst>
            <p:seq>
              <p:cTn id="1115" dur="indefinite" nodeType="mainSeq">
                <p:childTnLst>
                  <p:par>
                    <p:cTn id="1116" dur="indefinite" fill="hold">
                      <p:stCondLst>
                        <p:cond delay="indefinite"/>
                      </p:stCondLst>
                      <p:childTnLst>
                        <p:par>
                          <p:cTn id="11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dur="indefinite" fill="hold">
                      <p:stCondLst>
                        <p:cond delay="indefinite"/>
                      </p:stCondLst>
                      <p:childTnLst>
                        <p:par>
                          <p:cTn id="11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dur="indefinite" fill="hold">
                      <p:stCondLst>
                        <p:cond delay="indefinite"/>
                      </p:stCondLst>
                      <p:childTnLst>
                        <p:par>
                          <p:cTn id="11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dur="indefinite" fill="hold">
                      <p:stCondLst>
                        <p:cond delay="indefinite"/>
                      </p:stCondLst>
                      <p:childTnLst>
                        <p:par>
                          <p:cTn id="11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5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dur="indefinite" fill="hold">
                      <p:stCondLst>
                        <p:cond delay="indefinite"/>
                      </p:stCondLst>
                      <p:childTnLst>
                        <p:par>
                          <p:cTn id="11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dur="indefinite" fill="hold">
                      <p:stCondLst>
                        <p:cond delay="indefinite"/>
                      </p:stCondLst>
                      <p:childTnLst>
                        <p:par>
                          <p:cTn id="11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dur="indefinite" fill="hold">
                      <p:stCondLst>
                        <p:cond delay="indefinite"/>
                      </p:stCondLst>
                      <p:childTnLst>
                        <p:par>
                          <p:cTn id="11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07552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Tahoma"/>
              </a:rPr>
              <a:t>Sched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560" y="2707920"/>
            <a:ext cx="41050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66ff"/>
                </a:solidFill>
                <a:latin typeface="Tahoma"/>
              </a:rPr>
              <a:t>Che cosa l’altro ha dett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66ff"/>
                </a:solidFill>
                <a:latin typeface="Tahoma"/>
              </a:rPr>
              <a:t>Quali sono i contenuti essenziali del suo messaggi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Tahoma"/>
              </a:rPr>
              <a:t>Riformul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8320" y="2707920"/>
            <a:ext cx="41004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66ff"/>
                </a:solidFill>
                <a:latin typeface="Tahoma"/>
              </a:rPr>
              <a:t>Qual è lo scopo della mia domand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66ff"/>
                </a:solidFill>
                <a:latin typeface="Tahoma"/>
              </a:rPr>
              <a:t>E’ uti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66ff"/>
                </a:solidFill>
                <a:latin typeface="Tahoma"/>
              </a:rPr>
              <a:t>Come posso formulare la mia domanda perché risulti effica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Tahoma"/>
              </a:rPr>
              <a:t>Doma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5280" y="765000"/>
            <a:ext cx="83520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60360" indent="-360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Tahoma"/>
              </a:rPr>
              <a:t>Giovane</a:t>
            </a:r>
            <a:r>
              <a:rPr b="0" lang="en-GB" sz="18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ahoma"/>
              </a:rPr>
              <a:t> “</a:t>
            </a:r>
            <a:r>
              <a:rPr b="0" i="1" lang="en-GB" sz="1800" spc="-1" strike="noStrike">
                <a:solidFill>
                  <a:srgbClr val="333399"/>
                </a:solidFill>
                <a:latin typeface="Tahoma"/>
              </a:rPr>
              <a:t>Stavo pensando di iscrivermi alla scuola per segretari d’azien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Tahoma"/>
              </a:rPr>
              <a:t>Secondo i miei amici è una cosa da femmine e mi deridono. Ma io ho bisog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Tahoma"/>
              </a:rPr>
              <a:t>di trovare lavoro presto e le offerte in giro sono scarse. Non so cosa fare</a:t>
            </a:r>
            <a:r>
              <a:rPr b="0" lang="en-GB" sz="1800" spc="-1" strike="noStrike">
                <a:solidFill>
                  <a:srgbClr val="333399"/>
                </a:solidFill>
                <a:latin typeface="Tahoma"/>
              </a:rPr>
              <a:t>!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443640" y="6597720"/>
            <a:ext cx="2700360" cy="260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900" spc="-1" strike="noStrike">
                <a:solidFill>
                  <a:srgbClr val="333399"/>
                </a:solidFill>
                <a:latin typeface="Arial"/>
              </a:rPr>
              <a:t>Dott.ssa Margherita Cesta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07552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Tahoma"/>
              </a:rPr>
              <a:t>Sched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0560" y="2204640"/>
            <a:ext cx="4033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66ff"/>
                </a:solidFill>
                <a:latin typeface="Tahoma"/>
              </a:rPr>
              <a:t>Quali sono le parole che l’altro usa per esprimere i suoi sentiment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66ff"/>
                </a:solidFill>
                <a:latin typeface="Tahoma"/>
              </a:rPr>
              <a:t>Quali sono i sentimenti esplicati nella CNV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66ff"/>
                </a:solidFill>
                <a:latin typeface="Tahoma"/>
              </a:rPr>
              <a:t>Qual è l’indice referenziale delle emozioni dell’altr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Tahoma"/>
              </a:rPr>
              <a:t>Verbalizz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8320" y="2276640"/>
            <a:ext cx="41004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66ff"/>
                </a:solidFill>
                <a:latin typeface="Tahoma"/>
              </a:rPr>
              <a:t>Qual è lo scopo della mia domand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66ff"/>
                </a:solidFill>
                <a:latin typeface="Tahoma"/>
              </a:rPr>
              <a:t>E’ uti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66ff"/>
                </a:solidFill>
                <a:latin typeface="Tahoma"/>
              </a:rPr>
              <a:t>Come posso formulare la mia domanda perché risulti effica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Tahoma"/>
              </a:rPr>
              <a:t>Dom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0920" y="620640"/>
            <a:ext cx="83516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ahoma"/>
              </a:rPr>
              <a:t>Giovane adulto</a:t>
            </a:r>
            <a:r>
              <a:rPr b="0" lang="en-GB" sz="1600" spc="-1" strike="noStrike">
                <a:solidFill>
                  <a:srgbClr val="333399"/>
                </a:solidFill>
                <a:latin typeface="Tahoma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i="1" lang="en-GB" sz="1600" spc="-1" strike="noStrike">
                <a:solidFill>
                  <a:srgbClr val="333399"/>
                </a:solidFill>
                <a:latin typeface="Tahoma"/>
              </a:rPr>
              <a:t>Faccio molta fatica a decidere che tipo di lavoro fare. Voglio guadagnare ben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333399"/>
                </a:solidFill>
                <a:latin typeface="Tahoma"/>
              </a:rPr>
              <a:t>ma desidero anche un lavoro che mi permetta di aiutare gli altri. Tuttavia l’insegnamen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333399"/>
                </a:solidFill>
                <a:latin typeface="Tahoma"/>
              </a:rPr>
              <a:t>o l’assistenza sociale non fanno per me, richiedono troppa abnegazione</a:t>
            </a:r>
            <a:r>
              <a:rPr b="0" lang="en-GB" sz="1600" spc="-1" strike="noStrike">
                <a:solidFill>
                  <a:srgbClr val="333399"/>
                </a:solidFill>
                <a:latin typeface="Tahoma"/>
              </a:rPr>
              <a:t>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Tahoma"/>
              </a:rPr>
              <a:t>(tono della voce basso, sguardo bass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43640" y="6597720"/>
            <a:ext cx="2700360" cy="260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900" spc="-1" strike="noStrike">
                <a:solidFill>
                  <a:srgbClr val="333399"/>
                </a:solidFill>
                <a:latin typeface="Arial"/>
              </a:rPr>
              <a:t>Dott.ssa Margherita Cesta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61640"/>
            <a:ext cx="822960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LE PAROLE PER I SENTIMENTI </a:t>
            </a:r>
            <a:r>
              <a:rPr b="0" lang="en-GB" sz="1200" spc="-1" strike="noStrike">
                <a:solidFill>
                  <a:srgbClr val="ff3300"/>
                </a:solidFill>
                <a:latin typeface="Comic Sans MS"/>
              </a:rPr>
              <a:t>(tratto da Colasanti, Mastromarino, 199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617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SENTIMENTI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INTENSIT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Bassa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Media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Al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3300"/>
                </a:solidFill>
                <a:latin typeface="Tahoma"/>
              </a:rPr>
              <a:t>GIOIA</a:t>
            </a:r>
            <a:r>
              <a:rPr b="1" lang="en-GB" sz="14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compiaciut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gioios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elettrizz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spensierat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content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entusia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soddisfatt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allegr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estasi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tranquillo, sereno 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ottimista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eccit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3300"/>
                </a:solidFill>
                <a:latin typeface="Tahoma"/>
              </a:rPr>
              <a:t>TRISTEZZA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giù di ton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triste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disper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scoraggiat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sol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depres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tagliato fuori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infelice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distrut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ferit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desol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demoralizzat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sconfitto, fini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3300"/>
                </a:solidFill>
                <a:latin typeface="Tahoma"/>
              </a:rPr>
              <a:t>PAURA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preoccupat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impaurit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terrific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inquieto, nervos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spaventat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pietrific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a disagio, esitante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tes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preso dal pan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turbato, intimidit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in ansia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paralizz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allarmat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agitat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pavid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imbarazzat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vulnerab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3300"/>
                </a:solidFill>
                <a:latin typeface="Tahoma"/>
              </a:rPr>
              <a:t>RABBIA</a:t>
            </a:r>
            <a:r>
              <a:rPr b="0" lang="en-GB" sz="14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infastidit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arrabbiat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irato, 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infuri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contrariat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stizzit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vendica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scoss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irritat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ostile, in coll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agitato, inquiet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offeso, risentit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furioso, violent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turbato 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innervosit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furibon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338720" y="8893080"/>
            <a:ext cx="251928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000099"/>
                </a:solidFill>
                <a:latin typeface="Tahoma"/>
              </a:rPr>
              <a:t>Dott.ssa Margherita Cesta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443640" y="6597720"/>
            <a:ext cx="2700360" cy="260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800" spc="-1" strike="noStrike">
                <a:solidFill>
                  <a:srgbClr val="000099"/>
                </a:solidFill>
                <a:latin typeface="Tahoma"/>
              </a:rPr>
              <a:t>Dott.ssa Margherita Cesta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dur="indefinite" fill="hold">
                      <p:stCondLst>
                        <p:cond delay="0"/>
                      </p:stCondLst>
                      <p:childTnLst>
                        <p:par>
                          <p:cTn id="1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1000" fill="hold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dur="indefinite" fill="hold">
                      <p:stCondLst>
                        <p:cond delay="indefinite"/>
                      </p:stCondLst>
                      <p:childTnLst>
                        <p:par>
                          <p:cTn id="1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dur="indefinite" fill="hold">
                      <p:stCondLst>
                        <p:cond delay="indefinite"/>
                      </p:stCondLst>
                      <p:childTnLst>
                        <p:par>
                          <p:cTn id="1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dur="indefinite" fill="hold">
                      <p:stCondLst>
                        <p:cond delay="indefinite"/>
                      </p:stCondLst>
                      <p:childTnLst>
                        <p:par>
                          <p:cTn id="1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dur="indefinite" fill="hold">
                      <p:stCondLst>
                        <p:cond delay="indefinite"/>
                      </p:stCondLst>
                      <p:childTnLst>
                        <p:par>
                          <p:cTn id="1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 fill="hold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 fill="hold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 fill="hold"/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 fill="hold"/>
                                        <p:tgtEl>
                                          <p:spTgt spid="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 fill="hold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dur="indefinite" fill="hold">
                      <p:stCondLst>
                        <p:cond delay="indefinite"/>
                      </p:stCondLst>
                      <p:childTnLst>
                        <p:par>
                          <p:cTn id="2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 fill="hold"/>
                                        <p:tgtEl>
                                          <p:spTgt spid="6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 fill="hold"/>
                                        <p:tgtEl>
                                          <p:spTgt spid="6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6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 fill="hold"/>
                                        <p:tgtEl>
                                          <p:spTgt spid="6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 fill="hold"/>
                                        <p:tgtEl>
                                          <p:spTgt spid="6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 fill="hold"/>
                                        <p:tgtEl>
                                          <p:spTgt spid="6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6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6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dur="indefinite" fill="hold">
                      <p:stCondLst>
                        <p:cond delay="indefinite"/>
                      </p:stCondLst>
                      <p:childTnLst>
                        <p:par>
                          <p:cTn id="2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 fill="hold"/>
                                        <p:tgtEl>
                                          <p:spTgt spid="68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68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68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 fill="hold"/>
                                        <p:tgtEl>
                                          <p:spTgt spid="68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68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68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 fill="hold"/>
                                        <p:tgtEl>
                                          <p:spTgt spid="68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8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8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 fill="hold"/>
                                        <p:tgtEl>
                                          <p:spTgt spid="68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68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68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39840"/>
                <a:tab algn="l" pos="205416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SENTIMENTI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INTENSIT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39840"/>
                <a:tab algn="l" pos="205416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39840"/>
                <a:tab algn="l" pos="205416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      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Bassa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Media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                       Al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39840"/>
                <a:tab algn="l" pos="205416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205416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1" lang="en-GB" sz="1400" spc="-1" strike="noStrike">
                <a:solidFill>
                  <a:srgbClr val="ff3300"/>
                </a:solidFill>
                <a:latin typeface="Tahoma"/>
              </a:rPr>
              <a:t>COLPA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rimorso, rimpiant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colpevole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imperdonab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205416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imbarazzat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mortificat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umiliato, avvili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205416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responsabile 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ridicol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stup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205416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intimidit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vergognos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angusti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205416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205416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1" lang="en-GB" sz="1400" spc="-1" strike="noStrike">
                <a:solidFill>
                  <a:srgbClr val="ff3300"/>
                </a:solidFill>
                <a:latin typeface="Tahoma"/>
              </a:rPr>
              <a:t>COMPETENZA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fermo, decis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competente, forte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pot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205416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1" lang="en-GB" sz="1400" spc="-1" strike="noStrike">
                <a:solidFill>
                  <a:srgbClr val="ff3300"/>
                </a:solidFill>
                <a:latin typeface="Tahoma"/>
              </a:rPr>
              <a:t>FORZA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abile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sicuro di sé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autorev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205416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audace, 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coraggios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influ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205416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risoluto, 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efficace 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determin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205416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realizzato,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 asser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205416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205416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1" lang="en-GB" sz="1400" spc="-1" strike="noStrike">
                <a:solidFill>
                  <a:srgbClr val="ff3300"/>
                </a:solidFill>
                <a:latin typeface="Tahoma"/>
              </a:rPr>
              <a:t>CONFUSIONE</a:t>
            </a:r>
            <a:r>
              <a:rPr b="0" lang="en-GB" sz="14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perpless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confus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torment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205416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1" lang="en-GB" sz="1400" spc="-1" strike="noStrike">
                <a:solidFill>
                  <a:srgbClr val="ff3300"/>
                </a:solidFill>
                <a:latin typeface="Tahoma"/>
              </a:rPr>
              <a:t>INCERTEZZA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disorganizzat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incert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sconcert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205416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insicuro, titubante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disorientat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sconvol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205416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in conflitt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dubbios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205416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205416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1" lang="en-GB" sz="1400" spc="-1" strike="noStrike">
                <a:solidFill>
                  <a:srgbClr val="ff3300"/>
                </a:solidFill>
                <a:latin typeface="Tahoma"/>
              </a:rPr>
              <a:t>DEBOLEZZA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rassegnat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inadeguato, fragile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inutile, impot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205416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1" lang="en-GB" sz="1400" spc="-1" strike="noStrike">
                <a:solidFill>
                  <a:srgbClr val="ff3300"/>
                </a:solidFill>
                <a:latin typeface="Tahoma"/>
              </a:rPr>
              <a:t>INADEGUATEZZA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poco disinvolt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incapace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esausto, codar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205416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demoralizzat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vulnerabile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buono a nul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205416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incert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senza risorse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inferi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205416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insicur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incompetente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insignific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205416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372360" y="6678720"/>
            <a:ext cx="25923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60360" indent="-360360" algn="r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800" spc="-1" strike="noStrike">
                <a:solidFill>
                  <a:srgbClr val="333399"/>
                </a:solidFill>
                <a:latin typeface="Arial"/>
              </a:rPr>
              <a:t>Dott.ssa Margherita Cesta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dur="indefinite" fill="hold">
                      <p:stCondLst>
                        <p:cond delay="indefinite"/>
                      </p:stCondLst>
                      <p:childTnLst>
                        <p:par>
                          <p:cTn id="2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dur="indefinite" fill="hold">
                      <p:stCondLst>
                        <p:cond delay="indefinite"/>
                      </p:stCondLst>
                      <p:childTnLst>
                        <p:par>
                          <p:cTn id="2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dur="indefinite" fill="hold">
                      <p:stCondLst>
                        <p:cond delay="indefinite"/>
                      </p:stCondLst>
                      <p:childTnLst>
                        <p:par>
                          <p:cTn id="3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 fill="hold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 fill="hold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 fill="hold"/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 fill="hold"/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 fill="hold"/>
                                        <p:tgtEl>
                                          <p:spTgt spid="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dur="indefinite" fill="hold">
                      <p:stCondLst>
                        <p:cond delay="indefinite"/>
                      </p:stCondLst>
                      <p:childTnLst>
                        <p:par>
                          <p:cTn id="3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 fill="hold"/>
                                        <p:tgtEl>
                                          <p:spTgt spid="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 fill="hold"/>
                                        <p:tgtEl>
                                          <p:spTgt spid="7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7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7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 fill="hold"/>
                                        <p:tgtEl>
                                          <p:spTgt spid="7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7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7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500" fill="hold"/>
                                        <p:tgtEl>
                                          <p:spTgt spid="7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7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7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dur="indefinite" fill="hold">
                      <p:stCondLst>
                        <p:cond delay="indefinite"/>
                      </p:stCondLst>
                      <p:childTnLst>
                        <p:par>
                          <p:cTn id="3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 fill="hold"/>
                                        <p:tgtEl>
                                          <p:spTgt spid="7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7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7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 fill="hold"/>
                                        <p:tgtEl>
                                          <p:spTgt spid="7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7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7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 fill="hold"/>
                                        <p:tgtEl>
                                          <p:spTgt spid="71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71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71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 fill="hold"/>
                                        <p:tgtEl>
                                          <p:spTgt spid="71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71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71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 fill="hold"/>
                                        <p:tgtEl>
                                          <p:spTgt spid="71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71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71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0" y="1052280"/>
            <a:ext cx="914400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cc3300"/>
                </a:solidFill>
                <a:latin typeface="Comic Sans MS"/>
              </a:rPr>
              <a:t>CONTENUTO</a:t>
            </a:r>
            <a:r>
              <a:rPr b="1" lang="en-GB" sz="18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1" lang="en-GB" sz="18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1" lang="en-GB" sz="18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1" lang="en-GB" sz="1800" spc="-1" strike="noStrike">
                <a:solidFill>
                  <a:srgbClr val="cc33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“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Che cosa sta dicendo?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“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Come lo sta dicendo?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La confusione mi distur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“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Che cosa dice si sé?”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Sono a disag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Ripristini l’ord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“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In che modo l’altro percepis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       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me e la nostra relazione?”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Lei deve fare qualco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1187280" y="260280"/>
            <a:ext cx="69948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Comic Sans MS"/>
              </a:rPr>
              <a:t>Le 4 dimensioni di un messagg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11280" y="2781360"/>
            <a:ext cx="4032360" cy="1224000"/>
          </a:xfrm>
          <a:prstGeom prst="rect">
            <a:avLst/>
          </a:prstGeom>
          <a:solidFill>
            <a:srgbClr val="bbe0e3">
              <a:alpha val="52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mic Sans MS"/>
              </a:rPr>
              <a:t>Faccio fatica a segu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</a:rPr>
              <a:t>con questa confusio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mic Sans MS"/>
              </a:rPr>
              <a:t>Può far fare un po’ di silenzi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2708280"/>
            <a:ext cx="2160720" cy="504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Comic Sans MS"/>
              </a:rPr>
              <a:t>      </a:t>
            </a:r>
            <a:r>
              <a:rPr b="1" lang="en-GB" sz="1600" spc="-1" strike="noStrike">
                <a:solidFill>
                  <a:srgbClr val="cc3300"/>
                </a:solidFill>
                <a:latin typeface="Comic Sans MS"/>
              </a:rPr>
              <a:t>AUTO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GB" sz="1600" spc="-1" strike="noStrike">
                <a:solidFill>
                  <a:srgbClr val="cc3300"/>
                </a:solidFill>
                <a:latin typeface="Comic Sans MS"/>
              </a:rPr>
              <a:t>PRESENT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020000" y="2708280"/>
            <a:ext cx="1512720" cy="431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GB" sz="1600" spc="-1" strike="noStrike">
                <a:solidFill>
                  <a:srgbClr val="cc3300"/>
                </a:solidFill>
                <a:latin typeface="Comic Sans MS"/>
              </a:rPr>
              <a:t>APPE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348000" y="4076640"/>
            <a:ext cx="2268720" cy="504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cc3300"/>
                </a:solidFill>
                <a:latin typeface="Comic Sans MS"/>
              </a:rPr>
              <a:t>RELAZION</a:t>
            </a:r>
            <a:r>
              <a:rPr b="1" lang="en-GB" sz="1800" spc="-1" strike="noStrike">
                <a:solidFill>
                  <a:srgbClr val="cc3300"/>
                </a:solidFill>
                <a:latin typeface="Arial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443640" y="3357720"/>
            <a:ext cx="2700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“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Che cosa vu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raggiungere l’altro c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la sua  comunicazione?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300720" y="6678720"/>
            <a:ext cx="25923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60360" indent="-360360" algn="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900" spc="-1" strike="noStrike">
                <a:solidFill>
                  <a:srgbClr val="333399"/>
                </a:solidFill>
                <a:latin typeface="Arial"/>
              </a:rPr>
              <a:t>Dott.ssa Margherita Cesta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dur="indefinite" fill="hold">
                      <p:stCondLst>
                        <p:cond delay="indefinite"/>
                      </p:stCondLst>
                      <p:childTnLst>
                        <p:par>
                          <p:cTn id="3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dur="indefinite" fill="hold">
                      <p:stCondLst>
                        <p:cond delay="indefinite"/>
                      </p:stCondLst>
                      <p:childTnLst>
                        <p:par>
                          <p:cTn id="4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dur="indefinite" fill="hold">
                      <p:stCondLst>
                        <p:cond delay="indefinite"/>
                      </p:stCondLst>
                      <p:childTnLst>
                        <p:par>
                          <p:cTn id="4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0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dur="indefinite" fill="hold">
                      <p:stCondLst>
                        <p:cond delay="indefinite"/>
                      </p:stCondLst>
                      <p:childTnLst>
                        <p:par>
                          <p:cTn id="4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dur="indefinite" fill="hold">
                      <p:stCondLst>
                        <p:cond delay="indefinite"/>
                      </p:stCondLst>
                      <p:childTnLst>
                        <p:par>
                          <p:cTn id="4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dur="indefinite" fill="hold">
                      <p:stCondLst>
                        <p:cond delay="indefinite"/>
                      </p:stCondLst>
                      <p:childTnLst>
                        <p:par>
                          <p:cTn id="4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dur="indefinite" fill="hold">
                      <p:stCondLst>
                        <p:cond delay="indefinite"/>
                      </p:stCondLst>
                      <p:childTnLst>
                        <p:par>
                          <p:cTn id="4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2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dur="indefinite" fill="hold">
                      <p:stCondLst>
                        <p:cond delay="indefinite"/>
                      </p:stCondLst>
                      <p:childTnLst>
                        <p:par>
                          <p:cTn id="4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0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dur="indefinite" fill="hold">
                      <p:stCondLst>
                        <p:cond delay="indefinite"/>
                      </p:stCondLst>
                      <p:childTnLst>
                        <p:par>
                          <p:cTn id="4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 fill="hold"/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dur="indefinite" fill="hold">
                      <p:stCondLst>
                        <p:cond delay="indefinite"/>
                      </p:stCondLst>
                      <p:childTnLst>
                        <p:par>
                          <p:cTn id="4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5" dur="500" fill="hold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dur="indefinite" fill="hold">
                      <p:stCondLst>
                        <p:cond delay="indefinite"/>
                      </p:stCondLst>
                      <p:childTnLst>
                        <p:par>
                          <p:cTn id="4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 fill="hold"/>
                                        <p:tgtEl>
                                          <p:spTgt spid="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7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7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7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7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 fill="hold"/>
                                        <p:tgtEl>
                                          <p:spTgt spid="7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dur="indefinite" fill="hold">
                      <p:stCondLst>
                        <p:cond delay="indefinite"/>
                      </p:stCondLst>
                      <p:childTnLst>
                        <p:par>
                          <p:cTn id="4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4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7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7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7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7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 fill="hold"/>
                                        <p:tgtEl>
                                          <p:spTgt spid="7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dur="indefinite" fill="hold">
                      <p:stCondLst>
                        <p:cond delay="indefinite"/>
                      </p:stCondLst>
                      <p:childTnLst>
                        <p:par>
                          <p:cTn id="5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5" dur="500" fill="hold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dur="indefinite" fill="hold">
                      <p:stCondLst>
                        <p:cond delay="indefinite"/>
                      </p:stCondLst>
                      <p:childTnLst>
                        <p:par>
                          <p:cTn id="5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8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dur="indefinite" fill="hold">
                      <p:stCondLst>
                        <p:cond delay="indefinite"/>
                      </p:stCondLst>
                      <p:childTnLst>
                        <p:par>
                          <p:cTn id="5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 fill="hold"/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바탕"/>
              </a:rPr>
              <a:t>APPROCCIO CENTRATO</a:t>
            </a:r>
            <a:br>
              <a:rPr sz="2000"/>
            </a:br>
            <a:r>
              <a:rPr b="1" lang="en-GB" sz="2000" spc="-1" strike="noStrike">
                <a:solidFill>
                  <a:srgbClr val="cc3300"/>
                </a:solidFill>
                <a:latin typeface="바탕"/>
              </a:rPr>
              <a:t>SULLA PERS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TENDENZA ATTUALIZZANT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GB" sz="1400" spc="-1" strike="noStrike">
                <a:solidFill>
                  <a:srgbClr val="333399"/>
                </a:solidFill>
                <a:latin typeface="Tahoma"/>
              </a:rPr>
              <a:t>ROG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             </a:t>
            </a:r>
            <a:r>
              <a:rPr b="0" i="1" lang="en-GB" sz="14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i="1" lang="en-GB" sz="1400" spc="-1" strike="noStrike">
                <a:solidFill>
                  <a:srgbClr val="333399"/>
                </a:solidFill>
                <a:latin typeface="Tahoma"/>
              </a:rPr>
              <a:t>Nell’uomo c’è una tenden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1" i="1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i="1" lang="en-GB" sz="1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i="1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i="1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i="1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i="1" lang="en-GB" sz="1400" spc="-1" strike="noStrike">
                <a:solidFill>
                  <a:srgbClr val="333399"/>
                </a:solidFill>
                <a:latin typeface="Tahoma"/>
              </a:rPr>
              <a:t>         </a:t>
            </a:r>
            <a:r>
              <a:rPr b="0" i="1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i="1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i="1" lang="en-GB" sz="14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i="1" lang="en-GB" sz="1400" spc="-1" strike="noStrike">
                <a:solidFill>
                  <a:srgbClr val="333399"/>
                </a:solidFill>
                <a:latin typeface="Tahoma"/>
              </a:rPr>
              <a:t>naturale verso il completo autosviluppo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br>
              <a:rPr sz="1400"/>
            </a:b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GB" sz="1400" spc="-1" strike="noStrike">
                <a:solidFill>
                  <a:srgbClr val="333399"/>
                </a:solidFill>
                <a:latin typeface="Tahoma"/>
              </a:rPr>
              <a:t>PSICOLOG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GB" sz="1400" spc="-1" strike="noStrike">
                <a:solidFill>
                  <a:srgbClr val="333399"/>
                </a:solidFill>
                <a:latin typeface="Tahoma"/>
              </a:rPr>
              <a:t>UMANISTICA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en-GB" sz="1400" spc="-1" strike="noStrike">
                <a:solidFill>
                  <a:srgbClr val="333399"/>
                </a:solidFill>
                <a:latin typeface="Tahoma"/>
              </a:rPr>
              <a:t>REL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br>
              <a:rPr sz="1400"/>
            </a:b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1" lang="en-GB" sz="1400" spc="-1" strike="noStrike">
                <a:solidFill>
                  <a:srgbClr val="cc3300"/>
                </a:solidFill>
                <a:latin typeface="Tahoma"/>
              </a:rPr>
              <a:t>ASCOL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GB" sz="14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cc3300"/>
                </a:solidFill>
                <a:latin typeface="Tahoma"/>
              </a:rPr>
              <a:t>      </a:t>
            </a:r>
            <a:r>
              <a:rPr b="1" lang="en-GB" sz="1400" spc="-1" strike="noStrike">
                <a:solidFill>
                  <a:srgbClr val="cc3300"/>
                </a:solidFill>
                <a:latin typeface="Tahoma"/>
              </a:rPr>
              <a:t>ATTIVO</a:t>
            </a:r>
            <a:r>
              <a:rPr b="1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GB" sz="1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GB" sz="1400" spc="-1" strike="noStrike">
                <a:solidFill>
                  <a:srgbClr val="333399"/>
                </a:solidFill>
                <a:latin typeface="Tahoma"/>
              </a:rPr>
              <a:t>          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1" lang="en-GB" sz="1400" spc="-1" strike="noStrike">
                <a:solidFill>
                  <a:srgbClr val="333399"/>
                </a:solidFill>
                <a:latin typeface="Tahoma"/>
              </a:rPr>
              <a:t>Clima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 di </a:t>
            </a:r>
            <a:r>
              <a:rPr b="1" lang="en-GB" sz="1400" spc="-1" strike="noStrike">
                <a:solidFill>
                  <a:srgbClr val="333399"/>
                </a:solidFill>
                <a:latin typeface="Tahoma"/>
              </a:rPr>
              <a:t>atteggiamen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GB" sz="1400" spc="-1" strike="noStrike">
                <a:solidFill>
                  <a:srgbClr val="333399"/>
                </a:solidFill>
                <a:latin typeface="Tahoma"/>
              </a:rPr>
              <a:t>           </a:t>
            </a:r>
            <a:r>
              <a:rPr b="1" lang="en-GB" sz="1400" spc="-1" strike="noStrike">
                <a:solidFill>
                  <a:srgbClr val="333399"/>
                </a:solidFill>
                <a:latin typeface="Tahoma"/>
              </a:rPr>
              <a:t>psicologici agevolanti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        “</a:t>
            </a:r>
            <a:r>
              <a:rPr b="1" lang="en-GB" sz="1400" spc="-1" strike="noStrike">
                <a:solidFill>
                  <a:srgbClr val="333399"/>
                </a:solidFill>
                <a:latin typeface="Tahoma"/>
              </a:rPr>
              <a:t>PERSONA AGEVOLANTE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         </a:t>
            </a:r>
            <a:r>
              <a:rPr b="0" i="1" lang="en-GB" sz="14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i="1" lang="en-GB" sz="1400" spc="-1" strike="noStrike">
                <a:solidFill>
                  <a:srgbClr val="333399"/>
                </a:solidFill>
                <a:latin typeface="Tahoma"/>
              </a:rPr>
              <a:t>Il terapeuta come “levatrice del cambiamento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i="1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i="1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i="1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i="1" lang="en-GB" sz="14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i="1" lang="en-GB" sz="1400" spc="-1" strike="noStrike">
                <a:solidFill>
                  <a:srgbClr val="333399"/>
                </a:solidFill>
                <a:latin typeface="Tahoma"/>
              </a:rPr>
              <a:t>e non come colui che lo genera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i="1" lang="en-GB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n-GB" sz="1400" spc="-1" strike="noStrike">
                <a:solidFill>
                  <a:srgbClr val="333399"/>
                </a:solidFill>
                <a:latin typeface="Arial"/>
              </a:rPr>
              <a:t>                 </a:t>
            </a:r>
            <a:r>
              <a:rPr b="0" i="1" lang="en-GB" sz="14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i="1" lang="en-GB" sz="1400" spc="-1" strike="noStrike">
                <a:solidFill>
                  <a:srgbClr val="333399"/>
                </a:solidFill>
                <a:latin typeface="Tahoma"/>
              </a:rPr>
              <a:t>L’autorità (il potere) decisiva è posta nelle mani del client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58920" y="1916280"/>
            <a:ext cx="1440" cy="64764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42920" y="3141720"/>
            <a:ext cx="2160720" cy="431640"/>
          </a:xfrm>
          <a:prstGeom prst="line">
            <a:avLst/>
          </a:prstGeom>
          <a:ln w="936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284720" y="3138480"/>
            <a:ext cx="2374920" cy="509760"/>
          </a:xfrm>
          <a:prstGeom prst="line">
            <a:avLst/>
          </a:prstGeom>
          <a:ln w="936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236000" y="2276640"/>
            <a:ext cx="1440" cy="792000"/>
          </a:xfrm>
          <a:prstGeom prst="line">
            <a:avLst/>
          </a:prstGeom>
          <a:ln w="936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08360" y="3933720"/>
            <a:ext cx="1800" cy="574920"/>
          </a:xfrm>
          <a:prstGeom prst="line">
            <a:avLst/>
          </a:prstGeom>
          <a:ln w="936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08000" y="1773360"/>
            <a:ext cx="3527640" cy="1440"/>
          </a:xfrm>
          <a:prstGeom prst="line">
            <a:avLst/>
          </a:prstGeom>
          <a:ln w="936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236000" y="3357720"/>
            <a:ext cx="1440" cy="433080"/>
          </a:xfrm>
          <a:prstGeom prst="line">
            <a:avLst/>
          </a:prstGeom>
          <a:ln w="936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00720" y="6678720"/>
            <a:ext cx="25923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60360" indent="-360360" algn="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900" spc="-1" strike="noStrike">
                <a:solidFill>
                  <a:srgbClr val="333399"/>
                </a:solidFill>
                <a:latin typeface="Arial"/>
              </a:rPr>
              <a:t>Dott.ssa Margherita Cesta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dur="indefinite" fill="hold">
                      <p:stCondLst>
                        <p:cond delay="indefinite"/>
                      </p:stCondLst>
                      <p:childTnLst>
                        <p:par>
                          <p:cTn id="5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dur="indefinite" fill="hold">
                      <p:stCondLst>
                        <p:cond delay="indefinite"/>
                      </p:stCondLst>
                      <p:childTnLst>
                        <p:par>
                          <p:cTn id="5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500" fill="hold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3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500" fill="hold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7" dur="indefinite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8" dur="indefinite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dur="indefinite" fill="hold">
                      <p:stCondLst>
                        <p:cond delay="indefinite"/>
                      </p:stCondLst>
                      <p:childTnLst>
                        <p:par>
                          <p:cTn id="5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5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2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6" dur="5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dur="indefinite" fill="hold">
                      <p:stCondLst>
                        <p:cond delay="indefinite"/>
                      </p:stCondLst>
                      <p:childTnLst>
                        <p:par>
                          <p:cTn id="5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dur="indefinite" fill="hold">
                      <p:stCondLst>
                        <p:cond delay="indefinite"/>
                      </p:stCondLst>
                      <p:childTnLst>
                        <p:par>
                          <p:cTn id="6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4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9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500" fill="hold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dur="indefinite" fill="hold">
                      <p:stCondLst>
                        <p:cond delay="indefinite"/>
                      </p:stCondLst>
                      <p:childTnLst>
                        <p:par>
                          <p:cTn id="6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1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3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8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8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8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8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8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3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8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8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8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8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8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cc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67280" y="188640"/>
            <a:ext cx="4176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바탕"/>
                <a:ea typeface="바탕"/>
              </a:rPr>
              <a:t>capacità</a:t>
            </a:r>
            <a:r>
              <a:rPr b="0" lang="en-GB" sz="1800" spc="-1" strike="noStrike">
                <a:solidFill>
                  <a:srgbClr val="000066"/>
                </a:solidFill>
                <a:latin typeface="바탕"/>
                <a:ea typeface="바탕"/>
              </a:rPr>
              <a:t> ed </a:t>
            </a:r>
            <a:r>
              <a:rPr b="1" lang="en-GB" sz="1800" spc="-1" strike="noStrike">
                <a:solidFill>
                  <a:srgbClr val="000066"/>
                </a:solidFill>
                <a:latin typeface="바탕"/>
                <a:ea typeface="바탕"/>
              </a:rPr>
              <a:t>intenzionalità</a:t>
            </a:r>
            <a:r>
              <a:rPr b="0" lang="en-GB" sz="1800" spc="-1" strike="noStrike">
                <a:solidFill>
                  <a:srgbClr val="000066"/>
                </a:solidFill>
                <a:latin typeface="바탕"/>
                <a:ea typeface="바탕"/>
              </a:rPr>
              <a:t> </a:t>
            </a:r>
            <a:br>
              <a:rPr sz="1800"/>
            </a:br>
            <a:r>
              <a:rPr b="0" lang="en-GB" sz="1800" spc="-1" strike="noStrike">
                <a:solidFill>
                  <a:srgbClr val="000066"/>
                </a:solidFill>
                <a:latin typeface="바탕"/>
                <a:ea typeface="바탕"/>
              </a:rPr>
              <a:t>di </a:t>
            </a:r>
            <a:r>
              <a:rPr b="1" lang="en-GB" sz="1800" spc="-1" strike="noStrike">
                <a:solidFill>
                  <a:srgbClr val="000066"/>
                </a:solidFill>
                <a:latin typeface="바탕"/>
                <a:ea typeface="바탕"/>
              </a:rPr>
              <a:t>sperimentare empaticamente</a:t>
            </a:r>
            <a:r>
              <a:rPr b="0" lang="en-GB" sz="1800" spc="-1" strike="noStrike">
                <a:solidFill>
                  <a:srgbClr val="000066"/>
                </a:solidFill>
                <a:latin typeface="바탕"/>
                <a:ea typeface="바탕"/>
              </a:rPr>
              <a:t> l’altro </a:t>
            </a:r>
            <a:r>
              <a:rPr b="1" lang="en-GB" sz="1800" spc="-1" strike="noStrike">
                <a:solidFill>
                  <a:srgbClr val="000066"/>
                </a:solidFill>
                <a:latin typeface="바탕"/>
                <a:ea typeface="바탕"/>
              </a:rPr>
              <a:t>rispecchiandone i vissu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8920" y="1844280"/>
            <a:ext cx="3961080" cy="52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6600"/>
                </a:solidFill>
                <a:latin typeface="Tahoma"/>
              </a:rPr>
              <a:t>AUTENTICITA’ –  CONGRUENZA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1" lang="en-GB" sz="1400" spc="-1" strike="noStrike">
                <a:solidFill>
                  <a:srgbClr val="006600"/>
                </a:solidFill>
                <a:latin typeface="Tahoma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1" lang="en-GB" sz="10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1" lang="en-GB" sz="10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1" lang="en-GB" sz="1000" spc="-1" strike="noStrike">
                <a:solidFill>
                  <a:srgbClr val="006600"/>
                </a:solidFill>
                <a:latin typeface="Tahom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6600"/>
                </a:solidFill>
                <a:latin typeface="Tahoma"/>
              </a:rPr>
              <a:t>ACCETTAZIONE INCONDIZIONATA  </a:t>
            </a:r>
            <a:r>
              <a:rPr b="1" lang="en-GB" sz="1400" spc="-1" strike="noStrike">
                <a:solidFill>
                  <a:srgbClr val="006600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6600"/>
                </a:solidFill>
                <a:latin typeface="Tahoma"/>
              </a:rPr>
              <a:t>della persona dell’altro</a:t>
            </a:r>
            <a:r>
              <a:rPr b="0" lang="en-GB" sz="14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1" lang="en-GB" sz="14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1" lang="en-GB" sz="14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1" lang="en-GB" sz="1400" spc="-1" strike="noStrike">
                <a:solidFill>
                  <a:srgbClr val="006600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0" lang="en-GB" sz="14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6600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34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1400" spc="-1" strike="noStrike">
                <a:solidFill>
                  <a:srgbClr val="006600"/>
                </a:solidFill>
                <a:latin typeface="Tahoma"/>
              </a:rPr>
              <a:t>EMPATIA</a:t>
            </a:r>
            <a:r>
              <a:rPr b="0" lang="en-GB" sz="1400" spc="-1" strike="noStrike">
                <a:solidFill>
                  <a:srgbClr val="006600"/>
                </a:solidFill>
                <a:latin typeface="Tahoma"/>
              </a:rPr>
              <a:t> =   </a:t>
            </a:r>
            <a:r>
              <a:rPr b="0" lang="en-GB" sz="1400" spc="-1" strike="noStrike">
                <a:solidFill>
                  <a:srgbClr val="006600"/>
                </a:solidFill>
                <a:latin typeface="Tahoma"/>
              </a:rPr>
              <a:t>capacità di “</a:t>
            </a:r>
            <a:r>
              <a:rPr b="1" lang="en-GB" sz="1400" spc="-1" strike="noStrike">
                <a:solidFill>
                  <a:srgbClr val="006600"/>
                </a:solidFill>
                <a:latin typeface="Tahoma"/>
              </a:rPr>
              <a:t>vedere</a:t>
            </a:r>
            <a:r>
              <a:rPr b="0" lang="en-GB" sz="1400" spc="-1" strike="noStrike">
                <a:solidFill>
                  <a:srgbClr val="006600"/>
                </a:solidFill>
                <a:latin typeface="Tahoma"/>
              </a:rPr>
              <a:t>” il mon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6600"/>
                </a:solidFill>
                <a:latin typeface="Tahoma"/>
              </a:rPr>
              <a:t>                       </a:t>
            </a:r>
            <a:r>
              <a:rPr b="0" lang="en-GB" sz="1400" spc="-1" strike="noStrike">
                <a:solidFill>
                  <a:srgbClr val="006600"/>
                </a:solidFill>
                <a:latin typeface="Tahoma"/>
              </a:rPr>
              <a:t>e di “</a:t>
            </a:r>
            <a:r>
              <a:rPr b="1" lang="en-GB" sz="1400" spc="-1" strike="noStrike">
                <a:solidFill>
                  <a:srgbClr val="006600"/>
                </a:solidFill>
                <a:latin typeface="Tahoma"/>
              </a:rPr>
              <a:t>sentirlo</a:t>
            </a:r>
            <a:r>
              <a:rPr b="0" lang="en-GB" sz="1400" spc="-1" strike="noStrike">
                <a:solidFill>
                  <a:srgbClr val="006600"/>
                </a:solidFill>
                <a:latin typeface="Tahoma"/>
              </a:rPr>
              <a:t>” così come l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6600"/>
                </a:solidFill>
                <a:latin typeface="Tahoma"/>
              </a:rPr>
              <a:t>                      “</a:t>
            </a:r>
            <a:r>
              <a:rPr b="0" lang="en-GB" sz="1400" spc="-1" strike="noStrike">
                <a:solidFill>
                  <a:srgbClr val="006600"/>
                </a:solidFill>
                <a:latin typeface="Tahoma"/>
              </a:rPr>
              <a:t>vede” e lo “sente” l’altro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6600"/>
                </a:solidFill>
                <a:latin typeface="Tahoma"/>
              </a:rPr>
              <a:t>capacità di </a:t>
            </a:r>
            <a:r>
              <a:rPr b="0" lang="en-GB" sz="1400" spc="-1" strike="noStrike">
                <a:solidFill>
                  <a:srgbClr val="006600"/>
                </a:solidFill>
                <a:latin typeface="Tahoma"/>
              </a:rPr>
              <a:t>DE - CENTRAMENTO </a:t>
            </a:r>
            <a:r>
              <a:rPr b="0" lang="en-GB" sz="1400" spc="-1" strike="noStrike">
                <a:solidFill>
                  <a:srgbClr val="006600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6600"/>
                </a:solidFill>
                <a:latin typeface="Tahoma"/>
              </a:rPr>
              <a:t>    </a:t>
            </a:r>
            <a:r>
              <a:rPr b="0" lang="en-GB" sz="1400" spc="-1" strike="noStrike">
                <a:solidFill>
                  <a:srgbClr val="006600"/>
                </a:solidFill>
                <a:latin typeface="Tahoma"/>
              </a:rPr>
              <a:t>(“sensibilità eterocentrica”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6600"/>
                </a:solidFill>
                <a:latin typeface="Tahoma"/>
              </a:rPr>
              <a:t>“</a:t>
            </a:r>
            <a:r>
              <a:rPr b="0" lang="en-GB" sz="1400" spc="-1" strike="noStrike">
                <a:solidFill>
                  <a:srgbClr val="006600"/>
                </a:solidFill>
                <a:latin typeface="Tahoma"/>
              </a:rPr>
              <a:t>SOSPENSIONE” DEL GIUDIZ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1197000"/>
            <a:ext cx="2808360" cy="792000"/>
          </a:xfrm>
          <a:prstGeom prst="ellipse">
            <a:avLst/>
          </a:prstGeom>
          <a:solidFill>
            <a:srgbClr val="ffcc00">
              <a:alpha val="49000"/>
            </a:srgbClr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Tahoma"/>
                <a:ea typeface="바탕"/>
              </a:rPr>
              <a:t>ATTEGGIAM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Tahoma"/>
                <a:ea typeface="바탕"/>
              </a:rPr>
              <a:t>(modalità d’esse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580000" y="1268280"/>
            <a:ext cx="2519280" cy="648000"/>
          </a:xfrm>
          <a:prstGeom prst="ellipse">
            <a:avLst/>
          </a:prstGeom>
          <a:solidFill>
            <a:srgbClr val="ffcc00">
              <a:alpha val="52000"/>
            </a:srgbClr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cc3300"/>
                </a:solidFill>
                <a:latin typeface="Tahoma"/>
              </a:rPr>
              <a:t>COMPORTAMEN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cc3300"/>
                </a:solidFill>
                <a:latin typeface="Tahoma"/>
              </a:rPr>
              <a:t>EMPAT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27640" y="4005360"/>
            <a:ext cx="4465440" cy="2592360"/>
          </a:xfrm>
          <a:prstGeom prst="horizontalScroll">
            <a:avLst>
              <a:gd name="adj" fmla="val 9125"/>
            </a:avLst>
          </a:prstGeom>
          <a:solidFill>
            <a:srgbClr val="ffcc00">
              <a:alpha val="50000"/>
            </a:srgbClr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60360" indent="-1857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1857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000066"/>
                </a:solidFill>
                <a:latin typeface="Tahoma"/>
              </a:rPr>
              <a:t>                 </a:t>
            </a:r>
            <a:r>
              <a:rPr b="0" i="1" lang="en-GB" sz="1600" spc="-1" strike="noStrike">
                <a:solidFill>
                  <a:srgbClr val="000066"/>
                </a:solidFill>
                <a:latin typeface="Tahoma"/>
              </a:rPr>
              <a:t>…</a:t>
            </a:r>
            <a:r>
              <a:rPr b="0" i="1" lang="en-GB" sz="1600" spc="-1" strike="noStrike">
                <a:solidFill>
                  <a:srgbClr val="000066"/>
                </a:solidFill>
                <a:latin typeface="Tahoma"/>
              </a:rPr>
              <a:t>. consente di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1857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0360" indent="-18576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•"/>
              <a:tabLst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Tahoma"/>
              </a:rPr>
              <a:t>rendersi </a:t>
            </a:r>
            <a:r>
              <a:rPr b="1" lang="en-GB" sz="1600" spc="-1" strike="noStrike">
                <a:solidFill>
                  <a:srgbClr val="000066"/>
                </a:solidFill>
                <a:latin typeface="Tahoma"/>
              </a:rPr>
              <a:t>pres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18576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•"/>
              <a:tabLst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Tahoma"/>
              </a:rPr>
              <a:t>rispondere al bisogno di </a:t>
            </a:r>
            <a:r>
              <a:rPr b="1" lang="en-GB" sz="1600" spc="-1" strike="noStrike">
                <a:solidFill>
                  <a:srgbClr val="000066"/>
                </a:solidFill>
                <a:latin typeface="Tahoma"/>
              </a:rPr>
              <a:t>confer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18576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•"/>
              <a:tabLst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Tahoma"/>
              </a:rPr>
              <a:t>favorire l’</a:t>
            </a:r>
            <a:r>
              <a:rPr b="1" lang="en-GB" sz="1600" spc="-1" strike="noStrike">
                <a:solidFill>
                  <a:srgbClr val="000066"/>
                </a:solidFill>
                <a:latin typeface="Tahoma"/>
              </a:rPr>
              <a:t>auto-esplorazione </a:t>
            </a:r>
            <a:r>
              <a:rPr b="0" lang="en-GB" sz="1600" spc="-1" strike="noStrike">
                <a:solidFill>
                  <a:srgbClr val="000066"/>
                </a:solidFill>
                <a:latin typeface="Tahoma"/>
              </a:rPr>
              <a:t>e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1857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0" lang="en-GB" sz="1600" spc="-1" strike="noStrike">
                <a:solidFill>
                  <a:srgbClr val="000066"/>
                </a:solidFill>
                <a:latin typeface="Tahoma"/>
              </a:rPr>
              <a:t>la </a:t>
            </a:r>
            <a:r>
              <a:rPr b="1" lang="en-GB" sz="1600" spc="-1" strike="noStrike">
                <a:solidFill>
                  <a:srgbClr val="000066"/>
                </a:solidFill>
                <a:latin typeface="Tahoma"/>
              </a:rPr>
              <a:t>scoperta autonoma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GB" sz="1600" spc="-1" strike="noStrike">
                <a:solidFill>
                  <a:srgbClr val="000066"/>
                </a:solidFill>
                <a:latin typeface="Tahoma"/>
              </a:rPr>
              <a:t>delle possibil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1857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en-GB" sz="1600" spc="-1" strike="noStrike">
                <a:solidFill>
                  <a:srgbClr val="000066"/>
                </a:solidFill>
                <a:latin typeface="Tahoma"/>
              </a:rPr>
              <a:t>soluzioni</a:t>
            </a:r>
            <a:r>
              <a:rPr b="0" lang="en-GB" sz="1600" spc="-1" strike="noStrike">
                <a:solidFill>
                  <a:srgbClr val="000066"/>
                </a:solidFill>
                <a:latin typeface="Tahoma"/>
              </a:rPr>
              <a:t> al proprio probl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185760">
              <a:lnSpc>
                <a:spcPct val="100000"/>
              </a:lnSpc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300720" y="6678720"/>
            <a:ext cx="25923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60360" indent="-360360" algn="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900" spc="-1" strike="noStrike">
                <a:solidFill>
                  <a:srgbClr val="333399"/>
                </a:solidFill>
                <a:latin typeface="Arial"/>
              </a:rPr>
              <a:t>Dott.ssa Margherita Cesta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716360" y="2421000"/>
            <a:ext cx="2089080" cy="647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60360" indent="-36036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6600"/>
                </a:solidFill>
                <a:latin typeface="Tahoma"/>
              </a:rPr>
              <a:t>TECNICHE 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1" lang="en-GB" sz="1400" spc="-1" strike="noStrike">
                <a:solidFill>
                  <a:srgbClr val="006600"/>
                </a:solidFill>
                <a:latin typeface="Tahoma"/>
              </a:rPr>
              <a:t>INCORAGGI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4360" y="3429000"/>
            <a:ext cx="2376720" cy="72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60360" indent="-36036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6600"/>
                </a:solidFill>
                <a:latin typeface="Tahoma"/>
              </a:rPr>
              <a:t>TECNICHE 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1" lang="en-GB" sz="1400" spc="-1" strike="noStrike">
                <a:solidFill>
                  <a:srgbClr val="006600"/>
                </a:solidFill>
                <a:latin typeface="Tahoma"/>
              </a:rPr>
              <a:t>RISPECCHI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93080" y="2421000"/>
            <a:ext cx="1834920" cy="72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60360" indent="-36036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6600"/>
                </a:solidFill>
                <a:latin typeface="Tahoma"/>
              </a:rPr>
              <a:t>“</a:t>
            </a:r>
            <a:r>
              <a:rPr b="1" lang="en-GB" sz="1400" spc="-1" strike="noStrike">
                <a:solidFill>
                  <a:srgbClr val="006600"/>
                </a:solidFill>
                <a:latin typeface="Tahoma"/>
              </a:rPr>
              <a:t>ARTE” 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6600"/>
                </a:solidFill>
                <a:latin typeface="Tahoma"/>
              </a:rPr>
              <a:t>DOMAND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948360" y="1916280"/>
            <a:ext cx="1800" cy="158400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80360" y="1916280"/>
            <a:ext cx="576360" cy="57600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5792400" y="1916280"/>
            <a:ext cx="654120" cy="57600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68360" y="189000"/>
            <a:ext cx="302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60360" indent="-36036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바탕"/>
              </a:rPr>
              <a:t>Ascolto at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480760" y="692280"/>
            <a:ext cx="1373400" cy="50472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95640" y="692280"/>
            <a:ext cx="1656000" cy="64908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5280" y="3860640"/>
            <a:ext cx="1512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1280" y="350028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60360" indent="-36036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Tahoma"/>
              </a:rPr>
              <a:t>Rispet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50920" y="350028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60360" indent="-36036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Tahoma"/>
              </a:rPr>
              <a:t>Fidu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dur="indefinite" fill="hold">
                      <p:stCondLst>
                        <p:cond delay="indefinite"/>
                      </p:stCondLst>
                      <p:childTnLst>
                        <p:par>
                          <p:cTn id="6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6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7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dur="indefinite" fill="hold">
                      <p:stCondLst>
                        <p:cond delay="indefinite"/>
                      </p:stCondLst>
                      <p:childTnLst>
                        <p:par>
                          <p:cTn id="6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5" dur="500" fill="hold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7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500" fill="hold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dur="indefinite" fill="hold">
                      <p:stCondLst>
                        <p:cond delay="indefinite"/>
                      </p:stCondLst>
                      <p:childTnLst>
                        <p:par>
                          <p:cTn id="6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dur="indefinite" fill="hold">
                      <p:stCondLst>
                        <p:cond delay="indefinite"/>
                      </p:stCondLst>
                      <p:childTnLst>
                        <p:par>
                          <p:cTn id="6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6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dur="indefinite" fill="hold">
                      <p:stCondLst>
                        <p:cond delay="indefinite"/>
                      </p:stCondLst>
                      <p:childTnLst>
                        <p:par>
                          <p:cTn id="7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2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dur="indefinite" fill="hold">
                      <p:stCondLst>
                        <p:cond delay="indefinite"/>
                      </p:stCondLst>
                      <p:childTnLst>
                        <p:par>
                          <p:cTn id="7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0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dur="indefinite" fill="hold">
                      <p:stCondLst>
                        <p:cond delay="indefinite"/>
                      </p:stCondLst>
                      <p:childTnLst>
                        <p:par>
                          <p:cTn id="7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3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8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dur="indefinite" fill="hold">
                      <p:stCondLst>
                        <p:cond delay="indefinite"/>
                      </p:stCondLst>
                      <p:childTnLst>
                        <p:par>
                          <p:cTn id="7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9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dur="indefinite" fill="hold">
                      <p:stCondLst>
                        <p:cond delay="indefinite"/>
                      </p:stCondLst>
                      <p:childTnLst>
                        <p:par>
                          <p:cTn id="7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dur="indefinite" fill="hold">
                      <p:stCondLst>
                        <p:cond delay="indefinite"/>
                      </p:stCondLst>
                      <p:childTnLst>
                        <p:par>
                          <p:cTn id="7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1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3" dur="500" fill="hold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5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500" fill="hold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dur="indefinite" fill="hold">
                      <p:stCondLst>
                        <p:cond delay="indefinite"/>
                      </p:stCondLst>
                      <p:childTnLst>
                        <p:par>
                          <p:cTn id="7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5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7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dur="indefinite" fill="hold">
                      <p:stCondLst>
                        <p:cond delay="indefinite"/>
                      </p:stCondLst>
                      <p:childTnLst>
                        <p:par>
                          <p:cTn id="7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5" dur="500" fill="hold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7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dur="indefinite" fill="hold">
                      <p:stCondLst>
                        <p:cond delay="indefinite"/>
                      </p:stCondLst>
                      <p:childTnLst>
                        <p:par>
                          <p:cTn id="7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5" dur="500" fill="hold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7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dur="indefinite" fill="hold">
                      <p:stCondLst>
                        <p:cond delay="indefinite"/>
                      </p:stCondLst>
                      <p:childTnLst>
                        <p:par>
                          <p:cTn id="7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3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5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9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dur="indefinite" fill="hold">
                      <p:stCondLst>
                        <p:cond delay="indefinite"/>
                      </p:stCondLst>
                      <p:childTnLst>
                        <p:par>
                          <p:cTn id="8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06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0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dur="indefinite" fill="hold">
                      <p:stCondLst>
                        <p:cond delay="indefinite"/>
                      </p:stCondLst>
                      <p:childTnLst>
                        <p:par>
                          <p:cTn id="8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3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7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dur="indefinite" fill="hold">
                      <p:stCondLst>
                        <p:cond delay="indefinite"/>
                      </p:stCondLst>
                      <p:childTnLst>
                        <p:par>
                          <p:cTn id="8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0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6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0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2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6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ccff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07552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Tahoma"/>
              </a:rPr>
              <a:t>LA DOMA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26920" y="1197000"/>
            <a:ext cx="2232360" cy="863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981000"/>
            <a:ext cx="1800000" cy="865440"/>
          </a:xfrm>
          <a:prstGeom prst="ellipse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60360" indent="-36036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Tahoma"/>
              </a:rPr>
              <a:t>Gen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732720" y="981000"/>
            <a:ext cx="1800000" cy="865440"/>
          </a:xfrm>
          <a:prstGeom prst="ellipse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60360" indent="-36036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Tahoma"/>
              </a:rPr>
              <a:t>Fo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564000" y="1557360"/>
            <a:ext cx="1800000" cy="865080"/>
          </a:xfrm>
          <a:prstGeom prst="ellipse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60360" indent="-36036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Tahoma"/>
              </a:rPr>
              <a:t>Sco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19280" y="2924280"/>
            <a:ext cx="5832360" cy="360036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Tahoma"/>
              </a:rPr>
              <a:t>Il “Genere” della dom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Tahoma"/>
              </a:rPr>
              <a:t>Retori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i="1" lang="en-GB" sz="1800" spc="-1" strike="noStrike">
                <a:solidFill>
                  <a:srgbClr val="333399"/>
                </a:solidFill>
                <a:latin typeface="Tahoma"/>
              </a:rPr>
              <a:t>Cosa dire di più..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Tahoma"/>
              </a:rPr>
              <a:t>Suggestive</a:t>
            </a:r>
            <a:r>
              <a:rPr b="0" lang="en-GB" sz="1800" spc="-1" strike="noStrike">
                <a:solidFill>
                  <a:srgbClr val="cc33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GB" sz="1800" spc="-1" strike="noStrike">
                <a:solidFill>
                  <a:srgbClr val="333399"/>
                </a:solidFill>
                <a:latin typeface="Tahoma"/>
              </a:rPr>
              <a:t>Si capisce che non intendeva dire così, non trovi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i="1" lang="en-GB" sz="1800" spc="-1" strike="noStrike">
                <a:solidFill>
                  <a:srgbClr val="333399"/>
                </a:solidFill>
                <a:latin typeface="Tahoma"/>
              </a:rPr>
              <a:t>Non volevi fare questo, non è vero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Tahoma"/>
              </a:rPr>
              <a:t>Esplo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048040" y="692280"/>
            <a:ext cx="2095200" cy="43308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27640" y="765000"/>
            <a:ext cx="1440" cy="79236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88000" y="692280"/>
            <a:ext cx="2305080" cy="36036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43640" y="6597720"/>
            <a:ext cx="2700360" cy="260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900" spc="-1" strike="noStrike">
                <a:solidFill>
                  <a:srgbClr val="333399"/>
                </a:solidFill>
                <a:latin typeface="Arial"/>
              </a:rPr>
              <a:t>Dott.ssa Margherita Cesta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dur="indefinite" fill="hold">
                      <p:stCondLst>
                        <p:cond delay="indefinite"/>
                      </p:stCondLst>
                      <p:childTnLst>
                        <p:par>
                          <p:cTn id="8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4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dur="indefinite" fill="hold">
                      <p:stCondLst>
                        <p:cond delay="indefinite"/>
                      </p:stCondLst>
                      <p:childTnLst>
                        <p:par>
                          <p:cTn id="8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4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49" dur="500" fill="hold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1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500" fill="hold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dur="indefinite" fill="hold">
                      <p:stCondLst>
                        <p:cond delay="indefinite"/>
                      </p:stCondLst>
                      <p:childTnLst>
                        <p:par>
                          <p:cTn id="8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1" dur="500" fill="hold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3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8" dur="500" fill="hold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dur="indefinite" fill="hold">
                      <p:stCondLst>
                        <p:cond delay="indefinite"/>
                      </p:stCondLst>
                      <p:childTnLst>
                        <p:par>
                          <p:cTn id="8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1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3" dur="500" fill="hold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5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0" dur="500" fill="hold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dur="indefinite" fill="hold">
                      <p:stCondLst>
                        <p:cond delay="indefinite"/>
                      </p:stCondLst>
                      <p:childTnLst>
                        <p:par>
                          <p:cTn id="8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83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7" dur="500" fill="hold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dur="indefinite" fill="hold">
                      <p:stCondLst>
                        <p:cond delay="indefinite"/>
                      </p:stCondLst>
                      <p:childTnLst>
                        <p:par>
                          <p:cTn id="8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0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dur="indefinite" fill="hold">
                      <p:stCondLst>
                        <p:cond delay="indefinite"/>
                      </p:stCondLst>
                      <p:childTnLst>
                        <p:par>
                          <p:cTn id="8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7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03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7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dur="indefinite" fill="hold">
                      <p:stCondLst>
                        <p:cond delay="indefinite"/>
                      </p:stCondLst>
                      <p:childTnLst>
                        <p:par>
                          <p:cTn id="9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0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4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6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0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22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6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dur="indefinite" fill="hold">
                      <p:stCondLst>
                        <p:cond delay="indefinite"/>
                      </p:stCondLst>
                      <p:childTnLst>
                        <p:par>
                          <p:cTn id="9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29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3" dur="5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cc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86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Tahoma"/>
              </a:rPr>
              <a:t>Domande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cc3300"/>
                </a:solidFill>
                <a:latin typeface="Tahoma"/>
              </a:rPr>
              <a:t>esplor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" y="981000"/>
            <a:ext cx="3816360" cy="547236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Tahoma"/>
              </a:rPr>
              <a:t>FORMA</a:t>
            </a:r>
            <a:r>
              <a:rPr b="0" lang="en-GB" sz="1800" spc="-1" strike="noStrike">
                <a:solidFill>
                  <a:srgbClr val="cc33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Tahoma"/>
              </a:rPr>
              <a:t>della dom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Tahoma"/>
              </a:rPr>
              <a:t>Chiusa</a:t>
            </a:r>
            <a:r>
              <a:rPr b="1" lang="en-GB" sz="1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Tahoma"/>
              </a:rPr>
              <a:t>A risposta multipl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Tahoma"/>
              </a:rPr>
              <a:t>Ape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i="1" lang="en-GB" sz="1800" spc="-1" strike="noStrike">
                <a:solidFill>
                  <a:srgbClr val="333399"/>
                </a:solidFill>
                <a:latin typeface="Tahoma"/>
              </a:rPr>
              <a:t>cosa”, “come”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i="1" lang="en-GB" sz="1800" spc="-1" strike="noStrike">
                <a:solidFill>
                  <a:srgbClr val="333399"/>
                </a:solidFill>
                <a:latin typeface="Tahoma"/>
              </a:rPr>
              <a:t>chi”, “quando”, “dov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Tahoma"/>
              </a:rPr>
              <a:t>Indiret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Tahoma"/>
              </a:rPr>
              <a:t>Proiet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i="1" lang="en-GB" sz="1600" spc="-1" strike="noStrike">
                <a:solidFill>
                  <a:srgbClr val="333399"/>
                </a:solidFill>
                <a:latin typeface="Tahoma"/>
              </a:rPr>
              <a:t>Se tu fossi…”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i="1" lang="en-GB" sz="1600" spc="-1" strike="noStrike">
                <a:solidFill>
                  <a:srgbClr val="333399"/>
                </a:solidFill>
                <a:latin typeface="Tahoma"/>
              </a:rPr>
              <a:t>Se tu potessi essere...... fare…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788000" y="981000"/>
            <a:ext cx="4105080" cy="532764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Tahoma"/>
              </a:rPr>
              <a:t>OBIETTIV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Tahoma"/>
              </a:rPr>
              <a:t>della doman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Tahoma"/>
              </a:rPr>
              <a:t>Aggiunta di inform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006600"/>
                </a:solidFill>
                <a:latin typeface="Tahoma"/>
              </a:rPr>
              <a:t>“</a:t>
            </a:r>
            <a:r>
              <a:rPr b="0" i="1" lang="en-GB" sz="1600" spc="-1" strike="noStrike">
                <a:solidFill>
                  <a:srgbClr val="006600"/>
                </a:solidFill>
                <a:latin typeface="Tahoma"/>
              </a:rPr>
              <a:t>Mi può dire qualcosa di più  al riguardo?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Tahoma"/>
              </a:rPr>
              <a:t>Chiarific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006600"/>
                </a:solidFill>
                <a:latin typeface="Tahoma"/>
              </a:rPr>
              <a:t>“</a:t>
            </a:r>
            <a:r>
              <a:rPr b="0" i="1" lang="en-GB" sz="1600" spc="-1" strike="noStrike">
                <a:solidFill>
                  <a:srgbClr val="006600"/>
                </a:solidFill>
                <a:latin typeface="Tahoma"/>
              </a:rPr>
              <a:t>Mi puo’ spiegare cosa intende dire con…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Tahoma"/>
              </a:rPr>
              <a:t>Focalizzazi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Tahoma"/>
              </a:rPr>
              <a:t>sul contenu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006600"/>
                </a:solidFill>
                <a:latin typeface="Tahoma"/>
              </a:rPr>
              <a:t>“</a:t>
            </a:r>
            <a:r>
              <a:rPr b="0" i="1" lang="en-GB" sz="1600" spc="-1" strike="noStrike">
                <a:solidFill>
                  <a:srgbClr val="006600"/>
                </a:solidFill>
                <a:latin typeface="Tahoma"/>
              </a:rPr>
              <a:t>Cosa è successo dopo questo fatto?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Tahoma"/>
              </a:rPr>
              <a:t>Focalizzazione sulla pers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006600"/>
                </a:solidFill>
                <a:latin typeface="Tahoma"/>
              </a:rPr>
              <a:t>“</a:t>
            </a:r>
            <a:r>
              <a:rPr b="0" i="1" lang="en-GB" sz="1600" spc="-1" strike="noStrike">
                <a:solidFill>
                  <a:srgbClr val="006600"/>
                </a:solidFill>
                <a:latin typeface="Tahoma"/>
              </a:rPr>
              <a:t>Lei cosa pensa al riguardo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006600"/>
                </a:solidFill>
                <a:latin typeface="Tahoma"/>
              </a:rPr>
              <a:t>cosa sente nel dire che…?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443640" y="6597720"/>
            <a:ext cx="2700360" cy="260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900" spc="-1" strike="noStrike">
                <a:solidFill>
                  <a:srgbClr val="333399"/>
                </a:solidFill>
                <a:latin typeface="Arial"/>
              </a:rPr>
              <a:t>Dott.ssa Margherita Cesta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dur="indefinite" fill="hold">
                      <p:stCondLst>
                        <p:cond delay="indefinite"/>
                      </p:stCondLst>
                      <p:childTnLst>
                        <p:par>
                          <p:cTn id="9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dur="indefinite" fill="hold">
                      <p:stCondLst>
                        <p:cond delay="indefinite"/>
                      </p:stCondLst>
                      <p:childTnLst>
                        <p:par>
                          <p:cTn id="9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4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6" dur="500" fill="hold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dur="indefinite" fill="hold">
                      <p:stCondLst>
                        <p:cond delay="indefinite"/>
                      </p:stCondLst>
                      <p:childTnLst>
                        <p:par>
                          <p:cTn id="9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4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1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5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dur="indefinite" fill="hold">
                      <p:stCondLst>
                        <p:cond delay="indefinite"/>
                      </p:stCondLst>
                      <p:childTnLst>
                        <p:par>
                          <p:cTn id="9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0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dur="indefinite" fill="hold">
                      <p:stCondLst>
                        <p:cond delay="indefinite"/>
                      </p:stCondLst>
                      <p:childTnLst>
                        <p:par>
                          <p:cTn id="9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5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dur="indefinite" fill="hold">
                      <p:stCondLst>
                        <p:cond delay="indefinite"/>
                      </p:stCondLst>
                      <p:childTnLst>
                        <p:par>
                          <p:cTn id="9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0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4" dur="5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8" dur="500" fill="hold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dur="indefinite" fill="hold">
                      <p:stCondLst>
                        <p:cond delay="indefinite"/>
                      </p:stCondLst>
                      <p:childTnLst>
                        <p:par>
                          <p:cTn id="9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8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3" dur="500" fill="hold"/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dur="indefinite" fill="hold">
                      <p:stCondLst>
                        <p:cond delay="indefinite"/>
                      </p:stCondLst>
                      <p:childTnLst>
                        <p:par>
                          <p:cTn id="9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8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8" dur="500" fill="hold"/>
                                        <p:tgtEl>
                                          <p:spTgt spid="12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2" dur="500" fill="hold"/>
                                        <p:tgtEl>
                                          <p:spTgt spid="12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6" dur="500" fill="hold"/>
                                        <p:tgtEl>
                                          <p:spTgt spid="12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dur="indefinite" fill="hold">
                      <p:stCondLst>
                        <p:cond delay="indefinite"/>
                      </p:stCondLst>
                      <p:childTnLst>
                        <p:par>
                          <p:cTn id="9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1" dur="500" fill="hold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dur="indefinite" fill="hold">
                      <p:stCondLst>
                        <p:cond delay="indefinite"/>
                      </p:stCondLst>
                      <p:childTnLst>
                        <p:par>
                          <p:cTn id="10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0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dur="indefinite" fill="hold">
                      <p:stCondLst>
                        <p:cond delay="indefinite"/>
                      </p:stCondLst>
                      <p:childTnLst>
                        <p:par>
                          <p:cTn id="10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5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9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dur="indefinite" fill="hold">
                      <p:stCondLst>
                        <p:cond delay="indefinite"/>
                      </p:stCondLst>
                      <p:childTnLst>
                        <p:par>
                          <p:cTn id="10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4" dur="500" fill="hold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8" dur="500" fill="hold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dur="indefinite" fill="hold">
                      <p:stCondLst>
                        <p:cond delay="indefinite"/>
                      </p:stCondLst>
                      <p:childTnLst>
                        <p:par>
                          <p:cTn id="10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3" dur="500" fill="hold"/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7" dur="500" fill="hold"/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1" dur="500" fill="hold"/>
                                        <p:tgtEl>
                                          <p:spTgt spid="1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dur="indefinite" fill="hold">
                      <p:stCondLst>
                        <p:cond delay="indefinite"/>
                      </p:stCondLst>
                      <p:childTnLst>
                        <p:par>
                          <p:cTn id="10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6" dur="500" fill="hold"/>
                                        <p:tgtEl>
                                          <p:spTgt spid="12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0" dur="500" fill="hold"/>
                                        <p:tgtEl>
                                          <p:spTgt spid="12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4" dur="500" fill="hold"/>
                                        <p:tgtEl>
                                          <p:spTgt spid="12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cc3300"/>
                </a:solidFill>
                <a:latin typeface="Tahoma"/>
              </a:rPr>
              <a:t>…… </a:t>
            </a:r>
            <a:r>
              <a:rPr b="1" i="1" lang="en-GB" sz="2400" spc="-1" strike="noStrike">
                <a:solidFill>
                  <a:srgbClr val="cc3300"/>
                </a:solidFill>
                <a:latin typeface="Tahoma"/>
              </a:rPr>
              <a:t>attenzione a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39924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333399"/>
                </a:solidFill>
                <a:latin typeface="Tahoma"/>
              </a:rPr>
              <a:t>…</a:t>
            </a:r>
            <a:r>
              <a:rPr b="1" i="1" lang="en-GB" sz="2000" spc="-1" strike="noStrike">
                <a:solidFill>
                  <a:srgbClr val="333399"/>
                </a:solidFill>
                <a:latin typeface="Tahoma"/>
              </a:rPr>
              <a:t>evit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Tahoma"/>
              </a:rPr>
              <a:t>Domande “perché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Tahoma"/>
              </a:rPr>
              <a:t>Domande succes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Tahoma"/>
              </a:rPr>
              <a:t>Domande sugges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00360" y="1125360"/>
            <a:ext cx="4390920" cy="56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6600"/>
                </a:solidFill>
                <a:latin typeface="Tahoma"/>
              </a:rPr>
              <a:t>…</a:t>
            </a:r>
            <a:r>
              <a:rPr b="1" i="1" lang="en-GB" sz="2000" spc="-1" strike="noStrike">
                <a:solidFill>
                  <a:srgbClr val="006600"/>
                </a:solidFill>
                <a:latin typeface="Tahoma"/>
              </a:rPr>
              <a:t>.formulare domande</a:t>
            </a:r>
            <a:r>
              <a:rPr b="1" lang="en-GB" sz="2000" spc="-1" strike="noStrike">
                <a:solidFill>
                  <a:srgbClr val="0066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buClr>
                <a:srgbClr val="006600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6600"/>
                </a:solidFill>
                <a:latin typeface="Tahoma"/>
              </a:rPr>
              <a:t>Chiare e sinteti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buClr>
                <a:srgbClr val="006600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6600"/>
                </a:solidFill>
                <a:latin typeface="Tahoma"/>
              </a:rPr>
              <a:t>Accessibili: </a:t>
            </a:r>
            <a:r>
              <a:rPr b="0" lang="en-GB" sz="2000" spc="-1" strike="noStrike">
                <a:solidFill>
                  <a:srgbClr val="006600"/>
                </a:solidFill>
                <a:latin typeface="Tahoma"/>
              </a:rPr>
              <a:t>centrate sul linguaggio  e sull’esperienza dell’interlocu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buClr>
                <a:srgbClr val="006600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6600"/>
                </a:solidFill>
                <a:latin typeface="Tahoma"/>
              </a:rPr>
              <a:t>Rilevanti: </a:t>
            </a:r>
            <a:r>
              <a:rPr b="0" lang="en-GB" sz="2000" spc="-1" strike="noStrike">
                <a:solidFill>
                  <a:srgbClr val="006600"/>
                </a:solidFill>
                <a:latin typeface="Tahoma"/>
              </a:rPr>
              <a:t>significative ai fine dell’esplorazione da parte dell’interlocu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443640" y="6597720"/>
            <a:ext cx="2700360" cy="260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900" spc="-1" strike="noStrike">
                <a:solidFill>
                  <a:srgbClr val="333399"/>
                </a:solidFill>
                <a:latin typeface="Arial"/>
              </a:rPr>
              <a:t>Dott.ssa Margherita Cesta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dur="indefinite" fill="hold">
                      <p:stCondLst>
                        <p:cond delay="indefinite"/>
                      </p:stCondLst>
                      <p:childTnLst>
                        <p:par>
                          <p:cTn id="10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5" dur="500" fill="hold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dur="indefinite" fill="hold">
                      <p:stCondLst>
                        <p:cond delay="indefinite"/>
                      </p:stCondLst>
                      <p:childTnLst>
                        <p:par>
                          <p:cTn id="10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dur="indefinite" fill="hold">
                      <p:stCondLst>
                        <p:cond delay="indefinite"/>
                      </p:stCondLst>
                      <p:childTnLst>
                        <p:par>
                          <p:cTn id="10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dur="indefinite" fill="hold">
                      <p:stCondLst>
                        <p:cond delay="indefinite"/>
                      </p:stCondLst>
                      <p:childTnLst>
                        <p:par>
                          <p:cTn id="10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dur="indefinite" fill="hold">
                      <p:stCondLst>
                        <p:cond delay="indefinite"/>
                      </p:stCondLst>
                      <p:childTnLst>
                        <p:par>
                          <p:cTn id="10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dur="indefinite" fill="hold">
                      <p:stCondLst>
                        <p:cond delay="indefinite"/>
                      </p:stCondLst>
                      <p:childTnLst>
                        <p:par>
                          <p:cTn id="10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dur="indefinite" fill="hold">
                      <p:stCondLst>
                        <p:cond delay="indefinite"/>
                      </p:stCondLst>
                      <p:childTnLst>
                        <p:par>
                          <p:cTn id="10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dur="indefinite" fill="hold">
                      <p:stCondLst>
                        <p:cond delay="indefinite"/>
                      </p:stCondLst>
                      <p:childTnLst>
                        <p:par>
                          <p:cTn id="11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dur="indefinite" fill="hold">
                      <p:stCondLst>
                        <p:cond delay="indefinite"/>
                      </p:stCondLst>
                      <p:childTnLst>
                        <p:par>
                          <p:cTn id="1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ASCOLTO ATTIVO    capacità ed intenzionalità di      sperimenta</dc:title>
</cp:coreProperties>
</file>